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A8A-419D-49B5-A183-665AAE3E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8CE-44ED-49BA-B498-8638B486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960-5904-4E2C-AF9C-9E7F8532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33C-D14C-4219-BF3A-1DB30D80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9946-3E36-41FE-8844-CFEAF454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6202-1ACF-450A-9D20-782FEE52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8C59-6C78-491A-834F-15EE3345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ABD5-C26C-4022-B15C-BDB2A67B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7A2F-336C-42DC-AAEB-D11FAA7A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4AB0-CD2F-4424-8DA5-1807AA8D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B8BE-A3AD-4760-BC6D-F72DE328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BE3-E6C5-4AC8-BF0D-48A88C59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542A-C012-4ECE-B1CC-8E2FB92D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3B88-DE7D-4725-B675-2A8D84B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5CC9-49A4-47E0-BB36-F145DDFA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F7E4-A67D-458F-8D8F-DFE8C80C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EE74-B2A1-4C49-92A8-937B39AD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33A-4D4A-4895-9953-2820038D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383-5866-4C72-97BF-D5CE14D9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691-448D-42CE-AED5-321198D2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6A7-4663-4B26-8ED4-B5B4F604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B24-D6F7-404C-A09E-09BC11BC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1BE-F522-438D-8778-6A39CC23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432-E97E-4287-A5DB-FF4DE52A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2422-20A4-4CCA-B297-7F843B649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752480"/>
            <a:ext cx="3962520" cy="763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971800" y="3581280"/>
            <a:ext cx="3962520" cy="763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EF8F-9A8C-4E47-871F-50E5D7F22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989640"/>
            <a:ext cx="7772400" cy="17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Examination of the Back</a:t>
            </a:r>
            <a:endParaRPr b="1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Comic Sans MS"/>
              </a:rPr>
              <a:t>Dr Jim Crosi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Comic Sans MS"/>
              </a:rPr>
              <a:t>Christiaan Barnard Memorial Hospital, Princess Alice and Groote Schuur Hospit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Z:\Shoeshoe\license.png"/>
          <p:cNvPicPr/>
          <p:nvPr/>
        </p:nvPicPr>
        <p:blipFill>
          <a:blip r:embed="rId1"/>
          <a:stretch/>
        </p:blipFill>
        <p:spPr>
          <a:xfrm>
            <a:off x="826920" y="646416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mportance of Back Pai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ck pain is a symptom – not a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y causes – within and without 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rong diagnosis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variable morbid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ime + money los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in aim – don’t miss dangerous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2057400" y="419112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2057400" y="487692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mportance of Back Pai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correct diagnosis and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urological impair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creasing deform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ss of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ronic 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rsonal trage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rsonal/Fiscal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mportance of Back Pai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ck pain is a symptom – not a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y causes – within and without 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ong diagnosis      variable morbid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ong diagnosis      time + money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ain aim – don’t miss dangerous patholo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4343400" y="403848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Back Pain - Personal Crocodile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6 M Prov rugby/cricket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Ewing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 M Surfer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osteogenic sarc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9 M Club rugby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lymph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5 M Prov cricket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3 M Rugby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paraplegia – tubercu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2 M Waterskiing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haemangioma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Back Pain - Personal Crocodile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3 F Top gymnast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multiple scler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6 M Fast bowler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osteoid oste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1 F Squash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ankylosing spondy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1 M Golfer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facet joint gouty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5 M Jogger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rectal carcin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70 M Walker –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adrenal second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mportance of Back Pai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ck pain is a symptom – not a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y causes – within and without 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ong diagnosis      variable morbid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me + money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in aim – don’t miss dangerous path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4343400" y="403848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7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amination of the Back -Clinical Approach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story and Examination are paramou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Human evolution is slow – clinical skills will las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Need cost effective screening and referra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amination of the Back -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History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cal                Verb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tailed       Reg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neral            ? Pro fo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i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ok for red flags      refer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4648320" y="594360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2819520" y="365760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2819520" y="3809880"/>
            <a:ext cx="457200" cy="38124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2819520" y="3123720"/>
            <a:ext cx="457200" cy="38124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5867280" y="3809880"/>
            <a:ext cx="457200" cy="38124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 flipV="1">
            <a:off x="5867280" y="3123720"/>
            <a:ext cx="457200" cy="38124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12"/>
          <p:cNvSpPr/>
          <p:nvPr/>
        </p:nvSpPr>
        <p:spPr>
          <a:xfrm>
            <a:off x="5257800" y="2895480"/>
            <a:ext cx="380880" cy="1447920"/>
          </a:xfrm>
          <a:custGeom>
            <a:avLst/>
            <a:gdLst>
              <a:gd name="textAreaLeft" fmla="*/ 0 w 380880"/>
              <a:gd name="textAreaRight" fmla="*/ 381240 w 3808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44" h="656">
                <a:moveTo>
                  <a:pt x="0" y="0"/>
                </a:moveTo>
                <a:cubicBezTo>
                  <a:pt x="40" y="0"/>
                  <a:pt x="80" y="0"/>
                  <a:pt x="96" y="48"/>
                </a:cubicBezTo>
                <a:cubicBezTo>
                  <a:pt x="112" y="96"/>
                  <a:pt x="88" y="240"/>
                  <a:pt x="96" y="288"/>
                </a:cubicBezTo>
                <a:cubicBezTo>
                  <a:pt x="104" y="336"/>
                  <a:pt x="144" y="312"/>
                  <a:pt x="144" y="336"/>
                </a:cubicBezTo>
                <a:cubicBezTo>
                  <a:pt x="144" y="360"/>
                  <a:pt x="104" y="384"/>
                  <a:pt x="96" y="432"/>
                </a:cubicBezTo>
                <a:cubicBezTo>
                  <a:pt x="88" y="480"/>
                  <a:pt x="112" y="592"/>
                  <a:pt x="96" y="624"/>
                </a:cubicBezTo>
                <a:cubicBezTo>
                  <a:pt x="80" y="656"/>
                  <a:pt x="24" y="632"/>
                  <a:pt x="0" y="624"/>
                </a:cubicBez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12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amination of the Back - 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Physical Examinatio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k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cal      – deformity/swel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tailed         Regional – visce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 distal neur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neral  - other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P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d flags       refer/pursu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586728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2743200" y="3809880"/>
            <a:ext cx="60948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2743200" y="3962520"/>
            <a:ext cx="533520" cy="83808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2743200" y="2819520"/>
            <a:ext cx="533520" cy="83808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9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amination of the Back -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Basic Investigation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mperature/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R – if increased      pur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st urine - ? Blood   ? Inf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724280" y="396252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6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cidence of Back Problem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use often obsc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ck pain is commonest presenting symp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amination of the Back -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Working Diagnose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Physiotherapists/Chiropractors 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Primary care doctors/Specialists 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ll or si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urological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inal column (back)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ssible cause and diagn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Specific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Acute Back Pain – (Red Flag) - Managemen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 for appropriate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propriate  rehabilitation if feasible after the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turn to work if fea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Non-specific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Acute Back Pain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– Initial Managemen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bserve 14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sitive expla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– 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are self-limit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t/modify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hysio/Ch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algesia/NSA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ular feedback/follow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Non-specific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Acute Back Pain – Initial Managemen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roved      Remedial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dual return to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gular re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 improvement or worse      reassess and further investig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200400" y="259092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200400" y="320040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172200" y="495288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200400" y="373392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9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Non-specific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ack Pain – Further Managemen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do History and Exa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ial investigation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BC CRP Uric Aci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ndard radio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datory – ESR  , deformity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impr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umbosacral spine  AP+ later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obliques seldom necessa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 pelv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killed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4"/>
          <p:cNvSpPr/>
          <p:nvPr/>
        </p:nvSpPr>
        <p:spPr>
          <a:xfrm flipV="1">
            <a:off x="4419720" y="3733920"/>
            <a:ext cx="0" cy="3045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Non-specific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ack Pain – Further Managemen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ther ima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quest by treating specialist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dio-isotope bone s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cography, Myelography, Ultras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Non-specific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ack Pain – Further Managemen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ther special investig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LA B27, other arthritis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rological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Non-specific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ack Pain – Further Management 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eat according to diagn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 to work assessment unit p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turn to work if fea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medial training if fea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ssess after return to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Back Pain - Conclusion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oid prejudg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story and Examination cru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ok for red flags and re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requent re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propriate special investig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ssess after return to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Back Pain in Workers - Message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ck pain is a symptom – not a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y causes – within and without 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ong diagnosis      variable morbid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me + money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in aim – don’t miss dangerous path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st recover with time, rest and reh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419720" y="335268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4419720" y="380988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7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Natural History of Acute Back Pai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0% of population during life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0% to 95 % “cured” – 3 mon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% to 5%      surg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0%      chronic back 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981080" y="579132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3124080" y="464832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7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Major Principles in Back Pai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gnore “worker”and “IO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ssess as “normal pers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e standard medic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 not miss dangerous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st will have extrinsic or overuse inju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mportance of Back Pai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ack pain is a symptom – not a dise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y causes – within and without 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ong diagnosis      variable morbid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me + money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in aim – don’t miss dangerous path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343400" y="396252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4343400" y="449568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7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mportance of Back Pai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ck pain is a symptom – not a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any causes – within and without 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ong diagnosis      variable morbid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ong diagnosis      time + money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in aim – don’t miss dangerous path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4419720" y="411480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19720" y="4648320"/>
            <a:ext cx="45720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7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aus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of Back Pai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rom without the 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isceroge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asculoge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neral constitu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sychoge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aus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of back pain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rom within the 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ertebral colum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ne   joints    soft t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ural struc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rd cauda equina  nerve ro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croiliac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thritic condition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ommon caus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of acute lower back pain in workers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rinsic (overuse) inju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cle  tendon  facet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ne stress reactions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artment syndr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trinsic inju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lls   blows  twists  crus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celeration/deceleration  cu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Z:\Shoeshoe\license.png"/>
          <p:cNvPicPr/>
          <p:nvPr/>
        </p:nvPicPr>
        <p:blipFill>
          <a:blip r:embed="rId1"/>
          <a:stretch/>
        </p:blipFill>
        <p:spPr>
          <a:xfrm>
            <a:off x="0" y="646416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8:44:17Z</dcterms:created>
  <dc:creator>Jim Crosier</dc:creator>
  <dc:description/>
  <dc:language>en-US</dc:language>
  <cp:lastModifiedBy>ltxnth002</cp:lastModifiedBy>
  <dcterms:modified xsi:type="dcterms:W3CDTF">2010-07-31T13:38:19Z</dcterms:modified>
  <cp:revision>19</cp:revision>
  <dc:subject/>
  <dc:title>Clinical approach to lower back pain in athletes</dc:title>
</cp:coreProperties>
</file>