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29.wmf" ContentType="image/x-wmf"/>
  <Override PartName="/ppt/media/image3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image30.jpeg" ContentType="image/jpeg"/>
  <Override PartName="/ppt/media/image32.png" ContentType="image/png"/>
  <Override PartName="/ppt/media/image35.png" ContentType="image/png"/>
  <Override PartName="/ppt/media/image36.png" ContentType="image/png"/>
  <Override PartName="/ppt/media/image6.jpeg" ContentType="image/jpeg"/>
  <Override PartName="/ppt/media/image37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7.jpeg" ContentType="image/jpeg"/>
  <Override PartName="/ppt/media/image5.gif" ContentType="image/gif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EBA0-087C-43BD-AA48-05E3CC222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A75-C563-4800-B306-0B590A8909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024-69D5-489F-9C93-777EC8A70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DA3-F1FA-4855-999B-83E039A0C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890-EFC8-45EE-90A8-5D81D8EE7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E870-8FDB-4303-AC5F-959039BD9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CB13-9244-4571-95AB-4B371B557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7D5-9D3C-480C-B859-C68C6A5B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FE5-A5C1-488D-A0BF-B62A6382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363-85E1-4A17-8BA1-354D7CCA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B32-45E1-4EC2-9AC9-59D8B619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24F4-D9F4-4CF7-9941-CBB6A351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2639-E167-4D4B-99C0-EB676A78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3F0A-5D2E-4493-BC58-99842AE6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BB4C-8FE1-4F4F-98F2-4E331253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36C-FA34-4364-B139-16E24C17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D66C-CE4A-4723-ACC7-70E49762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7BBC-6F43-46B7-A661-62294808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1C5-F8B0-4911-A7EA-B6923528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87FB-5D51-4F04-A4D8-C990AA9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B4D2-999F-437E-AFF9-8EAB067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9E8E-F063-4052-A741-4535B97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B375-7A6E-4492-B108-5150AA80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A7D4-525E-4302-BCCE-88EE66D2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01F-5D88-46B6-9FDA-C157BF88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E2E-E114-43DA-808F-4767CBE5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802-DEB0-499D-8B1A-3776961E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913-F5C2-4B31-AEBC-4C16A30D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434-785C-4BEE-AB51-F87D4D6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F8F-4F7F-49D8-A277-36AA4D59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7F9-B9F3-4AE1-9420-D921EB8B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690840" indent="-26568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2" marL="1062720" indent="-212400">
              <a:spcBef>
                <a:spcPts val="174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3" marL="1452600" indent="-212400">
              <a:spcBef>
                <a:spcPts val="17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4" marL="1842120" indent="-212400">
              <a:spcBef>
                <a:spcPts val="174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5" marL="1842120" indent="-2124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6" marL="1842120" indent="-2124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6160" y="6254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F71-5A6B-4365-8468-754A4F4455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8267760" cy="422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9"/>
          <p:cNvSpPr/>
          <p:nvPr/>
        </p:nvSpPr>
        <p:spPr>
          <a:xfrm>
            <a:off x="657360" y="6284880"/>
            <a:ext cx="203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ccff"/>
                </a:solidFill>
                <a:latin typeface="OCCUPATIONAL"/>
                <a:ea typeface="OCCUPATIONAL"/>
              </a:rPr>
              <a:t>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Life OccHealth Logo"/>
          <p:cNvPicPr/>
          <p:nvPr/>
        </p:nvPicPr>
        <p:blipFill>
          <a:blip r:embed="rId3"/>
          <a:stretch/>
        </p:blipFill>
        <p:spPr>
          <a:xfrm>
            <a:off x="684360" y="6257880"/>
            <a:ext cx="208728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749"/>
              </a:spcBef>
              <a:buClr>
                <a:srgbClr val="ff9900"/>
              </a:buClr>
              <a:buFont typeface="Iconic Symbols Ext"/>
              <a:buChar char="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690840" indent="-26568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2" marL="1062720" indent="-212400">
              <a:spcBef>
                <a:spcPts val="174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3" marL="1452600" indent="-212400">
              <a:spcBef>
                <a:spcPts val="174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4" marL="1842120" indent="-212400">
              <a:spcBef>
                <a:spcPts val="174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5" marL="1842120" indent="-2124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6" marL="1842120" indent="-2124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4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26160" y="6254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4F04-59E3-43BD-9797-8F5667EA9B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8267760" cy="422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657360" y="6284880"/>
            <a:ext cx="203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ccff"/>
                </a:solidFill>
                <a:latin typeface="OCCUPATIONAL"/>
                <a:ea typeface="OCCUPATIONAL"/>
              </a:rPr>
              <a:t>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ife OccHealth Logo"/>
          <p:cNvPicPr/>
          <p:nvPr/>
        </p:nvPicPr>
        <p:blipFill>
          <a:blip r:embed="rId3"/>
          <a:stretch/>
        </p:blipFill>
        <p:spPr>
          <a:xfrm>
            <a:off x="684360" y="6257880"/>
            <a:ext cx="208728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DME%20-%20Noise_Guideline-Final.pdf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Audiometry Practical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Dr Stefanus Snyman</a:t>
            </a:r>
            <a:br>
              <a:rPr sz="2800"/>
            </a:b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(snymans@new.co.za)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99" name="Picture 4" descr="Z:\Shoeshoe\license.png"/>
          <p:cNvPicPr/>
          <p:nvPr/>
        </p:nvPicPr>
        <p:blipFill>
          <a:blip r:embed="rId1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58920" y="4292280"/>
            <a:ext cx="583236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An  </a:t>
            </a:r>
            <a:r>
              <a:rPr b="0" i="1" lang="en-GB" sz="1400" spc="-1" strike="noStrike">
                <a:solidFill>
                  <a:srgbClr val="faf400"/>
                </a:solidFill>
                <a:latin typeface="Times New Roman"/>
              </a:rPr>
              <a:t>annulus fibrosus</a:t>
            </a: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Lpi  </a:t>
            </a:r>
            <a:r>
              <a:rPr b="0" i="1" lang="en-GB" sz="1400" spc="-1" strike="noStrike">
                <a:solidFill>
                  <a:srgbClr val="faf400"/>
                </a:solidFill>
                <a:latin typeface="Times New Roman"/>
              </a:rPr>
              <a:t>long process of incus</a:t>
            </a: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 - sometimes visible through a healthy translucent drum</a:t>
            </a:r>
            <a:br>
              <a:rPr sz="1400"/>
            </a:b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Um  </a:t>
            </a:r>
            <a:r>
              <a:rPr b="0" i="1" lang="en-GB" sz="1400" spc="-1" strike="noStrike">
                <a:solidFill>
                  <a:srgbClr val="faf400"/>
                </a:solidFill>
                <a:latin typeface="Times New Roman"/>
              </a:rPr>
              <a:t>umbo</a:t>
            </a: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 - the end of the malleus handle and the centre of the drum</a:t>
            </a:r>
            <a:br>
              <a:rPr sz="1400"/>
            </a:b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Lr  </a:t>
            </a:r>
            <a:r>
              <a:rPr b="0" i="1" lang="en-GB" sz="1400" spc="-1" strike="noStrike">
                <a:solidFill>
                  <a:srgbClr val="faf400"/>
                </a:solidFill>
                <a:latin typeface="Times New Roman"/>
              </a:rPr>
              <a:t>light reflex</a:t>
            </a: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 - antero-inferioirly</a:t>
            </a:r>
            <a:br>
              <a:rPr sz="1400"/>
            </a:b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Lp  </a:t>
            </a:r>
            <a:r>
              <a:rPr b="0" i="1" lang="en-GB" sz="1400" spc="-1" strike="noStrike">
                <a:solidFill>
                  <a:srgbClr val="faf400"/>
                </a:solidFill>
                <a:latin typeface="Times New Roman"/>
              </a:rPr>
              <a:t>Lateral process of the malleus</a:t>
            </a:r>
            <a:br>
              <a:rPr sz="1400"/>
            </a:b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At  </a:t>
            </a:r>
            <a:r>
              <a:rPr b="0" i="1" lang="en-GB" sz="1400" spc="-1" strike="noStrike">
                <a:solidFill>
                  <a:srgbClr val="faf400"/>
                </a:solidFill>
                <a:latin typeface="Times New Roman"/>
              </a:rPr>
              <a:t>Attic</a:t>
            </a: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 also known as </a:t>
            </a:r>
            <a:r>
              <a:rPr b="0" i="1" lang="en-GB" sz="1400" spc="-1" strike="noStrike">
                <a:solidFill>
                  <a:srgbClr val="faf400"/>
                </a:solidFill>
                <a:latin typeface="Times New Roman"/>
              </a:rPr>
              <a:t>pars flaccida</a:t>
            </a:r>
            <a:br>
              <a:rPr sz="1400"/>
            </a:b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Hm  </a:t>
            </a:r>
            <a:r>
              <a:rPr b="0" i="1" lang="en-GB" sz="1400" spc="-1" strike="noStrike">
                <a:solidFill>
                  <a:srgbClr val="faf400"/>
                </a:solidFill>
                <a:latin typeface="Times New Roman"/>
              </a:rPr>
              <a:t>handle of the malleus</a:t>
            </a:r>
            <a:r>
              <a:rPr b="0" lang="en-GB" sz="1400" spc="-1" strike="noStrike">
                <a:solidFill>
                  <a:srgbClr val="faf4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29" name="Picture 4" descr="Normal eardrum"/>
          <p:cNvPicPr/>
          <p:nvPr/>
        </p:nvPicPr>
        <p:blipFill>
          <a:blip r:embed="rId1"/>
          <a:stretch/>
        </p:blipFill>
        <p:spPr>
          <a:xfrm>
            <a:off x="3203640" y="0"/>
            <a:ext cx="5826240" cy="4370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aster-ear"/>
          <p:cNvPicPr/>
          <p:nvPr/>
        </p:nvPicPr>
        <p:blipFill>
          <a:blip r:embed="rId2"/>
          <a:stretch/>
        </p:blipFill>
        <p:spPr>
          <a:xfrm>
            <a:off x="0" y="0"/>
            <a:ext cx="414036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Outer channel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32" name="Picture 6" descr="wax1"/>
          <p:cNvPicPr/>
          <p:nvPr/>
        </p:nvPicPr>
        <p:blipFill>
          <a:blip r:embed="rId1"/>
          <a:stretch/>
        </p:blipFill>
        <p:spPr>
          <a:xfrm>
            <a:off x="685800" y="2544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wax-blockage-in-the-ear"/>
          <p:cNvPicPr/>
          <p:nvPr/>
        </p:nvPicPr>
        <p:blipFill>
          <a:blip r:embed="rId2"/>
          <a:stretch/>
        </p:blipFill>
        <p:spPr>
          <a:xfrm>
            <a:off x="4648320" y="244944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Outer ear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35" name="Picture 6" descr="otoscope-examination"/>
          <p:cNvPicPr/>
          <p:nvPr/>
        </p:nvPicPr>
        <p:blipFill>
          <a:blip r:embed="rId1"/>
          <a:stretch/>
        </p:blipFill>
        <p:spPr>
          <a:xfrm>
            <a:off x="685800" y="24494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wax2"/>
          <p:cNvPicPr/>
          <p:nvPr/>
        </p:nvPicPr>
        <p:blipFill>
          <a:blip r:embed="rId2"/>
          <a:stretch/>
        </p:blipFill>
        <p:spPr>
          <a:xfrm>
            <a:off x="4648320" y="2544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Z:\Shoeshoe\license.png"/>
          <p:cNvPicPr/>
          <p:nvPr/>
        </p:nvPicPr>
        <p:blipFill>
          <a:blip r:embed="rId3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Retraction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39" name="Picture 7" descr="Retracted eardrum"/>
          <p:cNvPicPr/>
          <p:nvPr/>
        </p:nvPicPr>
        <p:blipFill>
          <a:blip r:embed="rId1"/>
          <a:stretch/>
        </p:blipFill>
        <p:spPr>
          <a:xfrm>
            <a:off x="685800" y="2544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atelectatic_TM"/>
          <p:cNvPicPr/>
          <p:nvPr/>
        </p:nvPicPr>
        <p:blipFill>
          <a:blip r:embed="rId2"/>
          <a:stretch/>
        </p:blipFill>
        <p:spPr>
          <a:xfrm>
            <a:off x="4648320" y="2346480"/>
            <a:ext cx="3809880" cy="325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Z:\Shoeshoe\license.png"/>
          <p:cNvPicPr/>
          <p:nvPr/>
        </p:nvPicPr>
        <p:blipFill>
          <a:blip r:embed="rId3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Glue ear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43" name="Picture 7" descr="Red_glue ear"/>
          <p:cNvPicPr/>
          <p:nvPr/>
        </p:nvPicPr>
        <p:blipFill>
          <a:blip r:embed="rId1"/>
          <a:stretch/>
        </p:blipFill>
        <p:spPr>
          <a:xfrm>
            <a:off x="685800" y="2544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Glue ear"/>
          <p:cNvPicPr/>
          <p:nvPr/>
        </p:nvPicPr>
        <p:blipFill>
          <a:blip r:embed="rId2"/>
          <a:stretch/>
        </p:blipFill>
        <p:spPr>
          <a:xfrm>
            <a:off x="4648320" y="2544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Z:\Shoeshoe\license.png"/>
          <p:cNvPicPr/>
          <p:nvPr/>
        </p:nvPicPr>
        <p:blipFill>
          <a:blip r:embed="rId3"/>
          <a:stretch/>
        </p:blipFill>
        <p:spPr>
          <a:xfrm>
            <a:off x="305928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Perforation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47" name="Picture 7" descr="TM perf"/>
          <p:cNvPicPr/>
          <p:nvPr/>
        </p:nvPicPr>
        <p:blipFill>
          <a:blip r:embed="rId1"/>
          <a:stretch/>
        </p:blipFill>
        <p:spPr>
          <a:xfrm>
            <a:off x="685800" y="2544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Septic perf"/>
          <p:cNvPicPr/>
          <p:nvPr/>
        </p:nvPicPr>
        <p:blipFill>
          <a:blip r:embed="rId2"/>
          <a:stretch/>
        </p:blipFill>
        <p:spPr>
          <a:xfrm>
            <a:off x="4648320" y="2544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Z:\Shoeshoe\license.png"/>
          <p:cNvPicPr/>
          <p:nvPr/>
        </p:nvPicPr>
        <p:blipFill>
          <a:blip r:embed="rId3"/>
          <a:stretch/>
        </p:blipFill>
        <p:spPr>
          <a:xfrm>
            <a:off x="305928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Otosclerosis / Grommet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51" name="Picture 7" descr="sclerosis"/>
          <p:cNvPicPr/>
          <p:nvPr/>
        </p:nvPicPr>
        <p:blipFill>
          <a:blip r:embed="rId1"/>
          <a:stretch/>
        </p:blipFill>
        <p:spPr>
          <a:xfrm>
            <a:off x="611280" y="1768320"/>
            <a:ext cx="3136680" cy="418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grommet"/>
          <p:cNvPicPr/>
          <p:nvPr/>
        </p:nvPicPr>
        <p:blipFill>
          <a:blip r:embed="rId2"/>
          <a:stretch/>
        </p:blipFill>
        <p:spPr>
          <a:xfrm>
            <a:off x="3995640" y="206064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Z:\Shoeshoe\license.png"/>
          <p:cNvPicPr/>
          <p:nvPr/>
        </p:nvPicPr>
        <p:blipFill>
          <a:blip r:embed="rId3"/>
          <a:stretch/>
        </p:blipFill>
        <p:spPr>
          <a:xfrm>
            <a:off x="313200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60000"/>
                </a:solidFill>
                <a:latin typeface="Times New Roman"/>
              </a:rPr>
              <a:t>What to do beforehand</a:t>
            </a:r>
            <a:endParaRPr b="1" lang="en-US" sz="5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400"/>
                </a:solidFill>
                <a:latin typeface="Times New Roman"/>
              </a:rPr>
              <a:t>4.  Physical examination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spcBef>
                <a:spcPts val="814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af400"/>
                </a:solidFill>
                <a:latin typeface="Times New Roman"/>
              </a:rPr>
              <a:t>General ENT</a:t>
            </a: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spcBef>
                <a:spcPts val="814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af400"/>
                </a:solidFill>
                <a:latin typeface="Times New Roman"/>
              </a:rPr>
              <a:t>Otoscopy</a:t>
            </a: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  <a:p>
            <a:pPr lvl="3" marL="1714680" indent="-381240"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Outer ear (otitis externa / wax)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3" marL="1714680" indent="-381240"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Tympanic membrane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3" marL="1714680" indent="-381240"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Middle ear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spcBef>
                <a:spcPts val="814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af400"/>
                </a:solidFill>
                <a:latin typeface="Times New Roman"/>
              </a:rPr>
              <a:t>Rinne / Weber Tests (where indicated)</a:t>
            </a: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  <a:p>
            <a:pPr lvl="3" marL="1714680" indent="0">
              <a:spcBef>
                <a:spcPts val="81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56" name="Picture 4" descr="Z:\Shoeshoe\license.png"/>
          <p:cNvPicPr/>
          <p:nvPr/>
        </p:nvPicPr>
        <p:blipFill>
          <a:blip r:embed="rId1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60000"/>
                </a:solidFill>
                <a:latin typeface="Times New Roman"/>
              </a:rPr>
              <a:t>What to do beforehand</a:t>
            </a:r>
            <a:endParaRPr b="1" lang="en-US" sz="5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1749"/>
              </a:spcBef>
              <a:buClr>
                <a:srgbClr val="ff99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400"/>
                </a:solidFill>
                <a:latin typeface="Times New Roman"/>
              </a:rPr>
              <a:t>Out of noise requirements before a test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spcBef>
                <a:spcPts val="814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af400"/>
                </a:solidFill>
                <a:latin typeface="Times New Roman"/>
              </a:rPr>
              <a:t>Baseline &amp; Exit 16h (no PPE)</a:t>
            </a: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spcBef>
                <a:spcPts val="814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af400"/>
                </a:solidFill>
                <a:latin typeface="Times New Roman"/>
              </a:rPr>
              <a:t>Diagnostic (24h (no PPE)</a:t>
            </a: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spcBef>
                <a:spcPts val="814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af400"/>
                </a:solidFill>
                <a:latin typeface="Times New Roman"/>
              </a:rPr>
              <a:t>Other screening tests (PPE)</a:t>
            </a: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59" name="Picture 4" descr="Z:\Shoeshoe\license.png"/>
          <p:cNvPicPr/>
          <p:nvPr/>
        </p:nvPicPr>
        <p:blipFill>
          <a:blip r:embed="rId1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basics of audiometry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at to do beforehand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Times New Roman"/>
              </a:rPr>
              <a:t>The testing itself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af400"/>
                </a:solidFill>
                <a:latin typeface="Times New Roman"/>
              </a:rPr>
              <a:t>Interpreting the audiogram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af400"/>
                </a:solidFill>
                <a:latin typeface="Times New Roman"/>
              </a:rPr>
              <a:t>Follow up and action steps</a:t>
            </a:r>
            <a:endParaRPr b="0" lang="en-US" sz="36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62" name="Picture 4" descr="Z:\Shoeshoe\license.png"/>
          <p:cNvPicPr/>
          <p:nvPr/>
        </p:nvPicPr>
        <p:blipFill>
          <a:blip r:embed="rId1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What would you like to know?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02" name="Picture 4" descr="Z:\Shoeshoe\license.png"/>
          <p:cNvPicPr/>
          <p:nvPr/>
        </p:nvPicPr>
        <p:blipFill>
          <a:blip r:embed="rId1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test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Equipment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udiometer</a:t>
            </a: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af400"/>
                </a:solidFill>
                <a:latin typeface="Times New Roman"/>
              </a:rPr>
              <a:t>(DME Guideline p 106)</a:t>
            </a:r>
            <a:endParaRPr b="0" lang="en-US" sz="1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Booth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Qualified audiometrist / audiologist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65" name="Picture 4" descr="audiobooth"/>
          <p:cNvPicPr/>
          <p:nvPr/>
        </p:nvPicPr>
        <p:blipFill>
          <a:blip r:embed="rId2"/>
          <a:stretch/>
        </p:blipFill>
        <p:spPr>
          <a:xfrm>
            <a:off x="6842160" y="3695760"/>
            <a:ext cx="2276280" cy="3143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Audiometer"/>
          <p:cNvPicPr/>
          <p:nvPr/>
        </p:nvPicPr>
        <p:blipFill>
          <a:blip r:embed="rId3"/>
          <a:stretch/>
        </p:blipFill>
        <p:spPr>
          <a:xfrm>
            <a:off x="5999040" y="-27000"/>
            <a:ext cx="318132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boothvan2"/>
          <p:cNvPicPr/>
          <p:nvPr/>
        </p:nvPicPr>
        <p:blipFill>
          <a:blip r:embed="rId4"/>
          <a:stretch/>
        </p:blipFill>
        <p:spPr>
          <a:xfrm>
            <a:off x="6012000" y="1773360"/>
            <a:ext cx="3132000" cy="1904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Z:\Shoeshoe\license.png"/>
          <p:cNvPicPr/>
          <p:nvPr/>
        </p:nvPicPr>
        <p:blipFill>
          <a:blip r:embed="rId5"/>
          <a:stretch/>
        </p:blipFill>
        <p:spPr>
          <a:xfrm>
            <a:off x="2987640" y="638172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basics of audiometry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at to do beforehand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testing itself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Times New Roman"/>
              </a:rPr>
              <a:t>Interpreting the audiogram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Follow up and action steps</a:t>
            </a:r>
            <a:endParaRPr b="0" lang="en-US" sz="36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71" name="Picture 4" descr="Z:\Shoeshoe\license.png"/>
          <p:cNvPicPr/>
          <p:nvPr/>
        </p:nvPicPr>
        <p:blipFill>
          <a:blip r:embed="rId1"/>
          <a:stretch/>
        </p:blipFill>
        <p:spPr>
          <a:xfrm>
            <a:off x="284328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Interpreting the audiogram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Basics of audiometry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Decib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74" name="Picture 4" descr="a_pitch"/>
          <p:cNvPicPr/>
          <p:nvPr/>
        </p:nvPicPr>
        <p:blipFill>
          <a:blip r:embed="rId1"/>
          <a:stretch/>
        </p:blipFill>
        <p:spPr>
          <a:xfrm>
            <a:off x="4548240" y="2303640"/>
            <a:ext cx="4595760" cy="455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Z:\Shoeshoe\license.png"/>
          <p:cNvPicPr/>
          <p:nvPr/>
        </p:nvPicPr>
        <p:blipFill>
          <a:blip r:embed="rId2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Interpreting the audiogram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Basics of audiometry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Times New Roman"/>
              </a:rPr>
              <a:t>Decib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78" name="Picture 5" descr="a_loud"/>
          <p:cNvPicPr/>
          <p:nvPr/>
        </p:nvPicPr>
        <p:blipFill>
          <a:blip r:embed="rId1"/>
          <a:stretch/>
        </p:blipFill>
        <p:spPr>
          <a:xfrm>
            <a:off x="4211640" y="2286000"/>
            <a:ext cx="5033880" cy="4991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Z:\Shoeshoe\license.png"/>
          <p:cNvPicPr/>
          <p:nvPr/>
        </p:nvPicPr>
        <p:blipFill>
          <a:blip r:embed="rId2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Interpreting the audiogram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Basics of audiometry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Decibel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82" name="Picture 5" descr="a_sounds"/>
          <p:cNvPicPr/>
          <p:nvPr/>
        </p:nvPicPr>
        <p:blipFill>
          <a:blip r:embed="rId1"/>
          <a:stretch/>
        </p:blipFill>
        <p:spPr>
          <a:xfrm>
            <a:off x="4249800" y="2006640"/>
            <a:ext cx="4932360" cy="4889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Z:\Shoeshoe\license.png"/>
          <p:cNvPicPr/>
          <p:nvPr/>
        </p:nvPicPr>
        <p:blipFill>
          <a:blip r:embed="rId2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Audiograms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85" name="Picture 5" descr="audiogram Normal"/>
          <p:cNvPicPr/>
          <p:nvPr/>
        </p:nvPicPr>
        <p:blipFill>
          <a:blip r:embed="rId1"/>
          <a:stretch/>
        </p:blipFill>
        <p:spPr>
          <a:xfrm>
            <a:off x="2268360" y="1824120"/>
            <a:ext cx="5904000" cy="4360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Z:\Shoeshoe\license.png"/>
          <p:cNvPicPr/>
          <p:nvPr/>
        </p:nvPicPr>
        <p:blipFill>
          <a:blip r:embed="rId2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Sensorineural hearing loss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28880" y="1935000"/>
          <a:ext cx="743076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935000"/>
                    <a:ext cx="74307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Picture 8" descr="Z:\Shoeshoe\license.png"/>
          <p:cNvPicPr/>
          <p:nvPr/>
        </p:nvPicPr>
        <p:blipFill>
          <a:blip r:embed="rId3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Audiograms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92" name="Picture 6" descr="audiogram NIHL"/>
          <p:cNvPicPr/>
          <p:nvPr/>
        </p:nvPicPr>
        <p:blipFill>
          <a:blip r:embed="rId1"/>
          <a:stretch/>
        </p:blipFill>
        <p:spPr>
          <a:xfrm>
            <a:off x="1547640" y="1844640"/>
            <a:ext cx="5832720" cy="4308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Z:\Shoeshoe\license.png"/>
          <p:cNvPicPr/>
          <p:nvPr/>
        </p:nvPicPr>
        <p:blipFill>
          <a:blip r:embed="rId2"/>
          <a:stretch/>
        </p:blipFill>
        <p:spPr>
          <a:xfrm>
            <a:off x="291636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Degrees of hearing loss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95" name="Picture 6" descr="a_degree"/>
          <p:cNvPicPr/>
          <p:nvPr/>
        </p:nvPicPr>
        <p:blipFill>
          <a:blip r:embed="rId1"/>
          <a:stretch/>
        </p:blipFill>
        <p:spPr>
          <a:xfrm>
            <a:off x="2268360" y="1773360"/>
            <a:ext cx="4608720" cy="4566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Z:\Shoeshoe\license.png"/>
          <p:cNvPicPr/>
          <p:nvPr/>
        </p:nvPicPr>
        <p:blipFill>
          <a:blip r:embed="rId2"/>
          <a:stretch/>
        </p:blipFill>
        <p:spPr>
          <a:xfrm>
            <a:off x="2916360" y="638172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60000"/>
                </a:solidFill>
                <a:latin typeface="Times New Roman"/>
              </a:rPr>
              <a:t>Normal hearing (see 4kHz shift)</a:t>
            </a:r>
            <a:endParaRPr b="1" lang="en-US" sz="40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98" name="Picture 6" descr="NIHL1"/>
          <p:cNvPicPr/>
          <p:nvPr/>
        </p:nvPicPr>
        <p:blipFill>
          <a:blip r:embed="rId1"/>
          <a:stretch/>
        </p:blipFill>
        <p:spPr>
          <a:xfrm>
            <a:off x="0" y="1851120"/>
            <a:ext cx="9144000" cy="4321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Z:\Shoeshoe\license.png"/>
          <p:cNvPicPr/>
          <p:nvPr/>
        </p:nvPicPr>
        <p:blipFill>
          <a:blip r:embed="rId2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basics of audiometry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Times New Roman"/>
              </a:rPr>
              <a:t>What to do beforehand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af400"/>
                </a:solidFill>
                <a:latin typeface="Times New Roman"/>
              </a:rPr>
              <a:t>The testing itself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af400"/>
                </a:solidFill>
                <a:latin typeface="Times New Roman"/>
              </a:rPr>
              <a:t>Interpreting the audiogram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af400"/>
                </a:solidFill>
                <a:latin typeface="Times New Roman"/>
              </a:rPr>
              <a:t>Follow up and action steps</a:t>
            </a:r>
            <a:endParaRPr b="0" lang="en-US" sz="36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05" name="Picture 5" descr="Z:\Shoeshoe\license.png"/>
          <p:cNvPicPr/>
          <p:nvPr/>
        </p:nvPicPr>
        <p:blipFill>
          <a:blip r:embed="rId1"/>
          <a:stretch/>
        </p:blipFill>
        <p:spPr>
          <a:xfrm>
            <a:off x="284328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Audiograms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201" name="Picture 6" descr="a_sev_hf"/>
          <p:cNvPicPr/>
          <p:nvPr/>
        </p:nvPicPr>
        <p:blipFill>
          <a:blip r:embed="rId1"/>
          <a:stretch/>
        </p:blipFill>
        <p:spPr>
          <a:xfrm>
            <a:off x="2411280" y="1832040"/>
            <a:ext cx="4392720" cy="435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Z:\Shoeshoe\license.png"/>
          <p:cNvPicPr/>
          <p:nvPr/>
        </p:nvPicPr>
        <p:blipFill>
          <a:blip r:embed="rId2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204" name="Picture 6" descr="a_svhfsp"/>
          <p:cNvPicPr/>
          <p:nvPr/>
        </p:nvPicPr>
        <p:blipFill>
          <a:blip r:embed="rId1"/>
          <a:stretch/>
        </p:blipFill>
        <p:spPr>
          <a:xfrm>
            <a:off x="2050920" y="1773360"/>
            <a:ext cx="4681800" cy="46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Z:\Shoeshoe\license.png"/>
          <p:cNvPicPr/>
          <p:nvPr/>
        </p:nvPicPr>
        <p:blipFill>
          <a:blip r:embed="rId2"/>
          <a:stretch/>
        </p:blipFill>
        <p:spPr>
          <a:xfrm>
            <a:off x="2987640" y="6381720"/>
            <a:ext cx="11178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0" y="1746360"/>
            <a:ext cx="9144000" cy="4419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Z:\Shoeshoe\license.png"/>
          <p:cNvPicPr/>
          <p:nvPr/>
        </p:nvPicPr>
        <p:blipFill>
          <a:blip r:embed="rId2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2843280" y="0"/>
            <a:ext cx="6300720" cy="8526600"/>
            <a:chOff x="2843280" y="0"/>
            <a:chExt cx="6300720" cy="8526600"/>
          </a:xfrm>
        </p:grpSpPr>
        <p:pic>
          <p:nvPicPr>
            <p:cNvPr id="211" name="Picture 7" descr=""/>
            <p:cNvPicPr/>
            <p:nvPr/>
          </p:nvPicPr>
          <p:blipFill>
            <a:blip r:embed="rId1"/>
            <a:stretch/>
          </p:blipFill>
          <p:spPr>
            <a:xfrm>
              <a:off x="2843280" y="0"/>
              <a:ext cx="6300720" cy="70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8"/>
            <p:cNvSpPr/>
            <p:nvPr/>
          </p:nvSpPr>
          <p:spPr>
            <a:xfrm>
              <a:off x="3250800" y="7323840"/>
              <a:ext cx="5115960" cy="1202760"/>
            </a:xfrm>
            <a:prstGeom prst="rect">
              <a:avLst/>
            </a:prstGeom>
            <a:solidFill>
              <a:srgbClr val="f5cfa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BL: 1 Nov 2002 = PLH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SC: 1 Feb 2004 = PLH 1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Shift from BL = 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3682800" y="4572000"/>
              <a:ext cx="308160" cy="13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991320" y="4572000"/>
              <a:ext cx="307080" cy="39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>
              <a:off x="4361040" y="5031360"/>
              <a:ext cx="308160" cy="32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4730400" y="5424480"/>
              <a:ext cx="308160" cy="19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 flipV="1">
              <a:off x="5100120" y="5488920"/>
              <a:ext cx="308160" cy="13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 flipV="1">
              <a:off x="5408640" y="4966560"/>
              <a:ext cx="308160" cy="52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V="1">
              <a:off x="6395040" y="4442040"/>
              <a:ext cx="308160" cy="13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702120" y="4442040"/>
              <a:ext cx="308160" cy="26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7072920" y="4768200"/>
              <a:ext cx="308160" cy="32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>
              <a:off x="7380000" y="5031360"/>
              <a:ext cx="369720" cy="590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>
              <a:off x="7751160" y="5620680"/>
              <a:ext cx="370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V="1">
              <a:off x="8120520" y="4899600"/>
              <a:ext cx="307080" cy="655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2941200" y="181800"/>
              <a:ext cx="2035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800" spc="-1" strike="noStrike">
                  <a:solidFill>
                    <a:srgbClr val="ffff00"/>
                  </a:solidFill>
                  <a:latin typeface="Arial"/>
                </a:rPr>
                <a:t>CASE STUD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2"/>
            <p:cNvSpPr/>
            <p:nvPr/>
          </p:nvSpPr>
          <p:spPr>
            <a:xfrm>
              <a:off x="2843280" y="3589560"/>
              <a:ext cx="900720" cy="327600"/>
            </a:xfrm>
            <a:prstGeom prst="rect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Picture 8" descr="Z:\Shoeshoe\license.png"/>
          <p:cNvPicPr/>
          <p:nvPr/>
        </p:nvPicPr>
        <p:blipFill>
          <a:blip r:embed="rId2"/>
          <a:stretch/>
        </p:blipFill>
        <p:spPr>
          <a:xfrm>
            <a:off x="179280" y="5732640"/>
            <a:ext cx="111780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229" name="Picture 6" descr="conductive hearing loss"/>
          <p:cNvPicPr/>
          <p:nvPr/>
        </p:nvPicPr>
        <p:blipFill>
          <a:blip r:embed="rId1"/>
          <a:stretch/>
        </p:blipFill>
        <p:spPr>
          <a:xfrm>
            <a:off x="2870280" y="0"/>
            <a:ext cx="6273720" cy="6597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Z:\Shoeshoe\license.png"/>
          <p:cNvPicPr/>
          <p:nvPr/>
        </p:nvPicPr>
        <p:blipFill>
          <a:blip r:embed="rId2"/>
          <a:stretch/>
        </p:blipFill>
        <p:spPr>
          <a:xfrm>
            <a:off x="0" y="5732640"/>
            <a:ext cx="11174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NIHL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53240"/>
          </a:xfrm>
          <a:prstGeom prst="rect">
            <a:avLst/>
          </a:prstGeom>
          <a:ln w="0">
            <a:noFill/>
          </a:ln>
        </p:spPr>
      </p:pic>
      <p:pic>
        <p:nvPicPr>
          <p:cNvPr id="232" name="Audiogram.aif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234" name="Picture 8" descr="Z:\Shoeshoe\license.png"/>
          <p:cNvPicPr/>
          <p:nvPr/>
        </p:nvPicPr>
        <p:blipFill>
          <a:blip r:embed="rId3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2516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236" name="Picture 6" descr="Add notes - Audiograms - Interpretation"/>
          <p:cNvPicPr/>
          <p:nvPr/>
        </p:nvPicPr>
        <p:blipFill>
          <a:blip r:embed="rId1"/>
          <a:stretch/>
        </p:blipFill>
        <p:spPr>
          <a:xfrm>
            <a:off x="0" y="-193680"/>
            <a:ext cx="9144000" cy="6459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Z:\Shoeshoe\license.png"/>
          <p:cNvPicPr/>
          <p:nvPr/>
        </p:nvPicPr>
        <p:blipFill>
          <a:blip r:embed="rId2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quality of an audiogram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Determine the date the test was performed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Determine the type of audiogram (baseline, periodic screening, exit, diagnostic, etc.)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Surname, Names, ID, DOB, age, Clock # of the employee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Employer &amp; Date of employment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240" name="Picture 8" descr="Z:\Shoeshoe\license.png"/>
          <p:cNvPicPr/>
          <p:nvPr/>
        </p:nvPicPr>
        <p:blipFill>
          <a:blip r:embed="rId1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quality of an audiogram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HISTORY, e.g.: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Current &amp; Previous Noise levels and Exposure (dates)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Hearing Protection (Y/N/Sometimes) - since when?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Medication (ototoxic)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Colds, Allergies, Wax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Family history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Head injury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Ear discharge / infections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Previous diseases (TB, meningitis, etc.)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400"/>
                </a:solidFill>
                <a:latin typeface="Times New Roman"/>
              </a:rPr>
              <a:t>Tinnitus</a:t>
            </a:r>
            <a:endParaRPr b="0" lang="en-US" sz="20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243" name="Picture 8" descr="Z:\Shoeshoe\license.png"/>
          <p:cNvPicPr/>
          <p:nvPr/>
        </p:nvPicPr>
        <p:blipFill>
          <a:blip r:embed="rId1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quality of an audiogram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Findings with Physical Examination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Baseline audiometric data &amp; PLH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Military Service; Hobbies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(If it is a baseline or diagnostic audiogram, determine which one of the 2 audiograms are the best (lowest PLH) – they should not differ with more than 10dB at 0,5; 1; 2; 3; 4kHz)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246" name="Picture 8" descr="Z:\Shoeshoe\license.png"/>
          <p:cNvPicPr/>
          <p:nvPr/>
        </p:nvPicPr>
        <p:blipFill>
          <a:blip r:embed="rId1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60000"/>
                </a:solidFill>
                <a:latin typeface="Times New Roman"/>
              </a:rPr>
              <a:t>What to do beforehand</a:t>
            </a:r>
            <a:endParaRPr b="1" lang="en-US" sz="5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400"/>
                </a:solidFill>
                <a:latin typeface="Times New Roman"/>
              </a:rPr>
              <a:t>1.</a:t>
            </a:r>
            <a:r>
              <a:rPr b="1" lang="en-GB" sz="2800" spc="-1" strike="noStrike">
                <a:solidFill>
                  <a:srgbClr val="faf4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af400"/>
                </a:solidFill>
                <a:latin typeface="Times New Roman"/>
              </a:rPr>
              <a:t>Who should get an audiogram?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Working in noise zone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Drivers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Risk to safety if poor hearing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Ear problems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08" name="Picture 4" descr="Z:\Shoeshoe\license.png"/>
          <p:cNvPicPr/>
          <p:nvPr/>
        </p:nvPicPr>
        <p:blipFill>
          <a:blip r:embed="rId1"/>
          <a:stretch/>
        </p:blipFill>
        <p:spPr>
          <a:xfrm>
            <a:off x="284328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quality of an audiogram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Current hearing threshold levels &amp; PLH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Difference between baseline &amp; current (PLH shift)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9900"/>
              </a:buClr>
              <a:buSzPct val="60000"/>
              <a:buFont typeface="CommonBulle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relevant comments: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If shift more than 15dB at 2,3,4 kHz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Schilings Category (optional)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Normal / Sensorineural / Conductive / Mixed – mild, moderate, severe, profound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249" name="Picture 8" descr="Z:\Shoeshoe\license.png"/>
          <p:cNvPicPr/>
          <p:nvPr/>
        </p:nvPicPr>
        <p:blipFill>
          <a:blip r:embed="rId1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quality of an audiogram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Name, address, qualifications of person performing the test.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File audiogram – Archive old audios (40 years)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New Noise Level (noise zones, levels, exposure) every 2 years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252" name="Picture 8" descr="Z:\Shoeshoe\license.png"/>
          <p:cNvPicPr/>
          <p:nvPr/>
        </p:nvPicPr>
        <p:blipFill>
          <a:blip r:embed="rId1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The basics of audiometry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af400"/>
                </a:solidFill>
                <a:latin typeface="Times New Roman"/>
              </a:rPr>
              <a:t>What to do beforehand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af400"/>
                </a:solidFill>
                <a:latin typeface="Times New Roman"/>
              </a:rPr>
              <a:t>The testing itself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af400"/>
                </a:solidFill>
                <a:latin typeface="Times New Roman"/>
              </a:rPr>
              <a:t>Interpreting the audiogram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br>
              <a:rPr sz="3600"/>
            </a:br>
            <a:r>
              <a:rPr b="1" lang="en-GB" sz="3600" spc="-1" strike="noStrike">
                <a:solidFill>
                  <a:srgbClr val="ff6600"/>
                </a:solidFill>
                <a:latin typeface="Times New Roman"/>
              </a:rPr>
              <a:t>Follow up and action steps</a:t>
            </a:r>
            <a:endParaRPr b="0" lang="en-US" sz="36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255" name="Picture 8" descr="Z:\Shoeshoe\license.png"/>
          <p:cNvPicPr/>
          <p:nvPr/>
        </p:nvPicPr>
        <p:blipFill>
          <a:blip r:embed="rId1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e60000"/>
                </a:solidFill>
                <a:latin typeface="Times New Roman"/>
              </a:rPr>
              <a:t>Follow up and action steps</a:t>
            </a:r>
            <a:endParaRPr b="1" lang="en-US" sz="48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9900"/>
              </a:buClr>
              <a:buFont typeface="Web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f400"/>
                </a:solidFill>
                <a:latin typeface="Times New Roman"/>
              </a:rPr>
              <a:t>Details of actions to be taken: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Inform patient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Warn / train patient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Inform employer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For further investigation (see OHMP, refer diagnostic, ENT, report to Compensation Commissioner or Inspectorate, etc.)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258" name="Picture 8" descr="Z:\Shoeshoe\license.png"/>
          <p:cNvPicPr/>
          <p:nvPr/>
        </p:nvPicPr>
        <p:blipFill>
          <a:blip r:embed="rId1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565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af400"/>
                </a:solidFill>
                <a:latin typeface="Times New Roman"/>
              </a:rPr>
              <a:t>Thank you for lending me your ears</a:t>
            </a:r>
            <a:endParaRPr b="0" lang="en-US" sz="36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261" name="Picture 5" descr="ear 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2570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Z:\Shoeshoe\license.png"/>
          <p:cNvPicPr/>
          <p:nvPr/>
        </p:nvPicPr>
        <p:blipFill>
          <a:blip r:embed="rId2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60000"/>
                </a:solidFill>
                <a:latin typeface="Times New Roman"/>
              </a:rPr>
              <a:t>What to do beforehand</a:t>
            </a:r>
            <a:endParaRPr b="1" lang="en-US" sz="5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af400"/>
                </a:solidFill>
                <a:latin typeface="Times New Roman"/>
              </a:rPr>
              <a:t>2.  What type of audiogram should be performed?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500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500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Pre-employment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500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Periodic Screening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500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500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Exit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1" marL="990720" indent="-533520">
              <a:spcBef>
                <a:spcPts val="1500"/>
              </a:spcBef>
              <a:buClr>
                <a:srgbClr val="ff9900"/>
              </a:buClr>
              <a:buSzPct val="60000"/>
              <a:buFont typeface="Iconic Symbols Ext"/>
              <a:buChar char="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400"/>
                </a:solidFill>
                <a:latin typeface="Times New Roman"/>
              </a:rPr>
              <a:t>Diagnostic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11" name="Picture 4" descr="Z:\Shoeshoe\license.png"/>
          <p:cNvPicPr/>
          <p:nvPr/>
        </p:nvPicPr>
        <p:blipFill>
          <a:blip r:embed="rId1"/>
          <a:stretch/>
        </p:blipFill>
        <p:spPr>
          <a:xfrm>
            <a:off x="284328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60000"/>
                </a:solidFill>
                <a:latin typeface="Times New Roman"/>
              </a:rPr>
              <a:t>What to do beforehand</a:t>
            </a:r>
            <a:endParaRPr b="1" lang="en-US" sz="5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af400"/>
                </a:solidFill>
                <a:latin typeface="Times New Roman"/>
              </a:rPr>
              <a:t>3.  Get a proper history on every candidate for testing</a:t>
            </a:r>
            <a:endParaRPr b="0" lang="en-US" sz="24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Personal info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history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period of exposure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daily duration of exposure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? still exposed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? last exposed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noise levels dBA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baseline audiogram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400"/>
                </a:solidFill>
                <a:latin typeface="Times New Roman"/>
              </a:rPr>
              <a:t>copy of employee’s ID</a:t>
            </a:r>
            <a:endParaRPr b="0" lang="en-US" sz="22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14" name="Picture 5" descr="Z:\Shoeshoe\license.png"/>
          <p:cNvPicPr/>
          <p:nvPr/>
        </p:nvPicPr>
        <p:blipFill>
          <a:blip r:embed="rId1"/>
          <a:stretch/>
        </p:blipFill>
        <p:spPr>
          <a:xfrm>
            <a:off x="2987640" y="63086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60000"/>
                </a:solidFill>
                <a:latin typeface="Times New Roman"/>
              </a:rPr>
              <a:t>What to do beforehand</a:t>
            </a:r>
            <a:endParaRPr b="1" lang="en-US" sz="5400" spc="-1" strike="noStrike">
              <a:solidFill>
                <a:srgbClr val="e6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400"/>
                </a:solidFill>
                <a:latin typeface="Times New Roman"/>
              </a:rPr>
              <a:t>4.  Physical examination</a:t>
            </a:r>
            <a:endParaRPr b="0" lang="en-US" sz="28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spcBef>
                <a:spcPts val="814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af400"/>
                </a:solidFill>
                <a:latin typeface="Times New Roman"/>
              </a:rPr>
              <a:t>Outer ear (otitis externa / wax)</a:t>
            </a: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spcBef>
                <a:spcPts val="814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af400"/>
                </a:solidFill>
                <a:latin typeface="Times New Roman"/>
              </a:rPr>
              <a:t>Tympanic membrane</a:t>
            </a: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  <a:p>
            <a:pPr lvl="2" marL="1371600" indent="-457200">
              <a:spcBef>
                <a:spcPts val="814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af400"/>
                </a:solidFill>
                <a:latin typeface="Times New Roman"/>
              </a:rPr>
              <a:t>Middle ear</a:t>
            </a:r>
            <a:endParaRPr b="0" lang="en-US" sz="2600" spc="-1" strike="noStrike">
              <a:solidFill>
                <a:srgbClr val="faf400"/>
              </a:solidFill>
              <a:latin typeface="Times New Roman"/>
            </a:endParaRPr>
          </a:p>
        </p:txBody>
      </p:sp>
      <p:pic>
        <p:nvPicPr>
          <p:cNvPr id="117" name="Picture 4" descr="Z:\Shoeshoe\license.png"/>
          <p:cNvPicPr/>
          <p:nvPr/>
        </p:nvPicPr>
        <p:blipFill>
          <a:blip r:embed="rId1"/>
          <a:stretch/>
        </p:blipFill>
        <p:spPr>
          <a:xfrm>
            <a:off x="3132000" y="6237360"/>
            <a:ext cx="111780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60000"/>
                </a:solidFill>
                <a:latin typeface="Times New Roman"/>
              </a:rPr>
              <a:t>Otoscopy</a:t>
            </a: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835280" y="1628640"/>
          <a:ext cx="525780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628640"/>
                    <a:ext cx="525780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Z:\Shoeshoe\license.png"/>
          <p:cNvPicPr/>
          <p:nvPr/>
        </p:nvPicPr>
        <p:blipFill>
          <a:blip r:embed="rId3"/>
          <a:stretch/>
        </p:blipFill>
        <p:spPr>
          <a:xfrm>
            <a:off x="3059280" y="6308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0000"/>
              </a:solidFill>
              <a:latin typeface="Times New Roman"/>
            </a:endParaRPr>
          </a:p>
        </p:txBody>
      </p:sp>
      <p:pic>
        <p:nvPicPr>
          <p:cNvPr id="123" name="Picture 4" descr="Hearing-Anim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orti"/>
          <p:cNvPicPr/>
          <p:nvPr/>
        </p:nvPicPr>
        <p:blipFill>
          <a:blip r:embed="rId2"/>
          <a:stretch/>
        </p:blipFill>
        <p:spPr>
          <a:xfrm>
            <a:off x="6858000" y="5300640"/>
            <a:ext cx="2286000" cy="1832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Picture8"/>
          <p:cNvPicPr/>
          <p:nvPr/>
        </p:nvPicPr>
        <p:blipFill>
          <a:blip r:embed="rId3"/>
          <a:stretch/>
        </p:blipFill>
        <p:spPr>
          <a:xfrm>
            <a:off x="0" y="0"/>
            <a:ext cx="2771640" cy="203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Z:\Shoeshoe\license.png"/>
          <p:cNvPicPr/>
          <p:nvPr/>
        </p:nvPicPr>
        <p:blipFill>
          <a:blip r:embed="rId4"/>
          <a:stretch/>
        </p:blipFill>
        <p:spPr>
          <a:xfrm>
            <a:off x="5076720" y="6524640"/>
            <a:ext cx="1224000" cy="53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8:39:54Z</dcterms:created>
  <dc:creator>Stefanus Snyman</dc:creator>
  <dc:description/>
  <dc:language>en-US</dc:language>
  <cp:lastModifiedBy>ltxnth002</cp:lastModifiedBy>
  <dcterms:modified xsi:type="dcterms:W3CDTF">2010-07-31T13:16:05Z</dcterms:modified>
  <cp:revision>10</cp:revision>
  <dc:subject/>
  <dc:title>Audiometry Practical</dc:title>
</cp:coreProperties>
</file>