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2461-84A5-4132-8EE9-56919458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DFC1-0FBB-48E3-B098-99EF62FB7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ED8D-D1AD-462F-AB15-79C9B06AA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467-3BC9-4800-B250-0D199E34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AB1-6526-4054-A796-D0CE15D1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91A-6A97-4450-AE05-1AB2BF44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B86-0F2E-4B47-98BE-3B7C654B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0EFA-C5CA-4C23-AC18-7FFC677E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035A-A01B-4EF0-8A8D-0E664C01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9D77-12EB-4E14-BBB6-B18E8D96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9DD3-D34D-4C76-877F-B97F1804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A939-8C7E-4EC7-895C-9C8C080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6DF2-4B46-4F13-9A61-34DA38E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34C4-DC0A-4586-9E43-499451AA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877-C934-46AF-A8F0-B40E5DE9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10E0-1882-430F-AA89-86E66DF0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1C8F-CA48-4E44-8145-7F49EC8E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775A-625A-47BF-9C4B-AF3705F8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281A-2A45-4958-A79C-8DD6F31E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4853-E124-446D-B6F5-DC7E2FAB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C42-FD39-4467-9790-7E2206CC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206-07B3-43D3-9881-2CE867AF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F05-6AA7-473B-994E-7FAA2D6B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FD0-289B-452E-9176-222250AE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8B0-ED8B-41E4-8DAD-695610CF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805-6518-4D2E-98EE-489C50CD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2C1-0982-4912-8945-B8815A60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00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2116-010C-4316-9BAE-E53A5558D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BE52-E744-4BB1-9E64-313695B8283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40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C62D-41DB-4EAF-B4C6-CB2B223475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Audi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ment of Hearing and Audiogram 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A27E-8142-4E6B-816E-5B04FD2238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 Audi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pictorial representation of hearing thresholds as a function of frequency and inten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ymbols and/or colors to represent right ear, left ear, bone conduction hearing and masking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9C33-ACE1-411E-8AE2-4EE853FD46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 Audi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Object 6"/>
          <p:cNvGraphicFramePr/>
          <p:nvPr/>
        </p:nvGraphicFramePr>
        <p:xfrm>
          <a:off x="304920" y="2017800"/>
          <a:ext cx="8402400" cy="453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17800"/>
                    <a:ext cx="840240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8FA7-E2A6-4D66-9A57-0F2FACE655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recording Audi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304920" y="2057400"/>
          <a:ext cx="86500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500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Picture 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28D9-34DC-4AF5-B24F-9B47358FBA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grees of Hearing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Hea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0 - 25 dB H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ld Hearing Lo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30 - 45 dB H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ate Hearing Lo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50 - 65 dB H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e Hearing Lo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70 - 85 dB H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ound Hearing Lo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&gt; 90 dB H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B9D7-9AC0-4706-B00D-D71FBA1D47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udiogram Configurations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Progressive noise-induced hearing loss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5" name="Object 8"/>
          <p:cNvGraphicFramePr/>
          <p:nvPr/>
        </p:nvGraphicFramePr>
        <p:xfrm>
          <a:off x="1371600" y="1676520"/>
          <a:ext cx="77724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77724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Picture 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9DF1-F5D2-422B-801B-235CAF4A7C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ring Loss Z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1295280" y="1828800"/>
          <a:ext cx="63248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3248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Picture 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7582-BA32-4682-AB1F-1BE1362E20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519480" y="3871800"/>
            <a:ext cx="586800" cy="45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922320" y="1268280"/>
          <a:ext cx="6885000" cy="53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1268280"/>
                    <a:ext cx="6885000" cy="53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5"/>
          <p:cNvSpPr/>
          <p:nvPr/>
        </p:nvSpPr>
        <p:spPr>
          <a:xfrm>
            <a:off x="4253400" y="1509840"/>
            <a:ext cx="553320" cy="45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z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690200" y="1882800"/>
            <a:ext cx="589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250    500     1000    2000     3000   4000    6000     8000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5776920" y="3787920"/>
            <a:ext cx="448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776560" y="279720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6690960" y="2873520"/>
            <a:ext cx="39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081840" y="3025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3414600" y="3406680"/>
            <a:ext cx="448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3413520" y="3025800"/>
            <a:ext cx="590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 h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4329000" y="3102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1256040" y="762120"/>
            <a:ext cx="319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peech Soun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7" name="Picture 1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BFDA-5E6E-4461-B07B-F61FF72EF5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udiogram Configurations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Gundecking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0" name="Object 3"/>
          <p:cNvGraphicFramePr/>
          <p:nvPr/>
        </p:nvGraphicFramePr>
        <p:xfrm>
          <a:off x="1295280" y="2362320"/>
          <a:ext cx="7196400" cy="329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7196400" cy="32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EB94-F747-424A-821B-5029F9A3F9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udiogram Configurations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Background Noise 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80"/>
              </a:solidFill>
              <a:latin typeface="Tahoma"/>
              <a:ea typeface="Tahoma"/>
            </a:endParaRPr>
          </a:p>
        </p:txBody>
      </p:sp>
      <p:graphicFrame>
        <p:nvGraphicFramePr>
          <p:cNvPr id="196" name="Object 8"/>
          <p:cNvGraphicFramePr/>
          <p:nvPr/>
        </p:nvGraphicFramePr>
        <p:xfrm>
          <a:off x="914400" y="2124000"/>
          <a:ext cx="746748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24000"/>
                    <a:ext cx="74674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Picture 5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6D8A-D75C-461C-8AC6-AC901DF954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oss-ov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ahoma"/>
                <a:ea typeface="Tahoma"/>
              </a:rPr>
              <a:t>One ear hears much better than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ahoma"/>
                <a:ea typeface="Tahoma"/>
              </a:rPr>
              <a:t>The sound presented to the test                                      ear crosses through the skull and                                stimulates the hair cells of the                                   cochlea of the non-test 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ahoma"/>
                <a:ea typeface="Tahoma"/>
              </a:rPr>
              <a:t>The non-test ear is the one actually                  responding to the t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ahoma"/>
                <a:ea typeface="Tahoma"/>
              </a:rPr>
              <a:t>Differences of </a:t>
            </a:r>
            <a:r>
              <a:rPr b="0" lang="en-US" sz="2000" spc="-1" strike="noStrike" u="sng">
                <a:solidFill>
                  <a:srgbClr val="000080"/>
                </a:solidFill>
                <a:uFillTx/>
                <a:latin typeface="Tahoma"/>
                <a:ea typeface="Tahoma"/>
              </a:rPr>
              <a:t>&gt;</a:t>
            </a:r>
            <a:r>
              <a:rPr b="1" lang="en-US" sz="2000" spc="-1" strike="noStrike">
                <a:solidFill>
                  <a:srgbClr val="000080"/>
                </a:solidFill>
                <a:latin typeface="Tahoma"/>
                <a:ea typeface="Tahoma"/>
              </a:rPr>
              <a:t> 40 dB at the same frequency         between ears are suspic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5791320" y="2838600"/>
            <a:ext cx="3124080" cy="2190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Z:\Shoeshoe\license.png"/>
          <p:cNvPicPr/>
          <p:nvPr/>
        </p:nvPicPr>
        <p:blipFill>
          <a:blip r:embed="rId2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DE4F-8034-48BE-8AA9-D0035731CF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we measure he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hose measurements can be recor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he audiogram can tell 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3468-1877-46EC-A5CC-320ACE388E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oss-ov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6" name="Object 3"/>
          <p:cNvGraphicFramePr/>
          <p:nvPr/>
        </p:nvGraphicFramePr>
        <p:xfrm>
          <a:off x="762120" y="1752480"/>
          <a:ext cx="8001000" cy="46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800100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BB57-5C3D-411A-A7BD-A664E8A2A6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linger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tending to have a hearing loss by waiting until the sound is quite loud before pressing the response butt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AW Article 115, Paragraph 194, a person may be charged with malingering if he/she pretends to have a hearing loss that is later found to be non-ex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9650-AF40-426A-A80A-0C053C0940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utomatic Reche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772400" cy="5623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Z:\Shoeshoe\license.png"/>
          <p:cNvPicPr/>
          <p:nvPr/>
        </p:nvPicPr>
        <p:blipFill>
          <a:blip r:embed="rId2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EAB5-C701-42B8-A7EA-E963B2AC0B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nsorineural Hearing Lo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d by a complete audiological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air-conduction and bone-conduction pure-tone thres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acoustic immittance test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D914-72D7-4E27-919B-582C1452B5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nsorineural Hearing Lo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85800" y="1676520"/>
          <a:ext cx="89550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8955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Picture 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7AAC-E3DE-4DEB-A824-C15915A20E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ductive Hearing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533520" y="1752480"/>
          <a:ext cx="89550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955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F97D-807C-43A0-B785-2C4EAC3D3A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nseling Pati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1447920" y="1905120"/>
          <a:ext cx="655308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655308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EEEE-2CA3-4A66-A018-F51BF8E95B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lain the Test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privacy for expla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ears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quencies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wer the threshold, the better the he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each ear in terms of intensity and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124B-6BAE-44A5-8A02-5A0C8419F4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priate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in normal lim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s in the high or low frequ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s in one or both 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ring has changed or remained the 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9187-1860-48E2-8662-EBC1618CED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king Diagno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1676520" y="1293840"/>
          <a:ext cx="6248160" cy="54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3840"/>
                    <a:ext cx="6248160" cy="54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Picture 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8CE5-775A-4150-A8C8-4388D3467F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urposes of audiometric tes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the effectiveness of the hearing conservation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significant threshold shi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 readiness and fitness for du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 proper referral and diagn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6602-08D8-4B39-8B9A-7575BE6891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219320" y="685800"/>
            <a:ext cx="7467480" cy="58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edical Legal Requirements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Regardless of Type</a:t>
            </a:r>
            <a:r>
              <a:rPr b="1" lang="en-US" sz="3200" spc="-1" strike="noStrike" u="sng">
                <a:solidFill>
                  <a:srgbClr val="00e4a8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atient’s name, SSN, (MOS, SSI, Job Location, and Unit Identification Cod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aminer’s name, SSN, and certification numb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ate of T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ke, model, and serial number of audiomet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alibration date of audiometer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1" name="Picture 3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ED86-3AAB-4887-B2B9-07765D8888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304920" y="2286000"/>
            <a:ext cx="86104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OEHRS-HC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pplies most of the necessary medical legal audiogram information</a:t>
            </a:r>
            <a:br>
              <a:rPr sz="2800"/>
            </a:b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UTOMATICALLY</a:t>
            </a: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Picture 3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12AC-CAF4-4817-8E68-9E40E30C09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D Form 2215</a:t>
            </a:r>
            <a:br>
              <a:rPr sz="40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ference Audiogr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For all military and noise-exposed civili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erformed before noise-hazardous duties or as soon as possible thereaf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oise-free period of at least 14 hours before the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o temporary ENT problems the day of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Refer for low-frequency or high-frequency hear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fter a permanent STS, re-establish a new basel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075D-69BA-4802-92BC-000DD119FA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D Form 2216</a:t>
            </a:r>
            <a:br>
              <a:rPr sz="40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earing Conservation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eriodic audi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n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0 - 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B0BB-0541-4A51-A3DF-2469604DEE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eneral Inform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intain audiograms for entire period of employment plus 5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st must be performed by audiologist, physician, persons certified by CAOHC, or one who has received equivalent military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quivalent military training includes this course.  The certification from this course and other Army courses is only 5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BE91-7D19-4FCA-9524-DCA2FB9BB5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diogram 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ained personnel must review all audiograms for validity and proper patient dispos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o Review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itially any Hearing Conservation Technici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blem audiograms must be reviewed by an audiologist, otolaryngologist or other physici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1766-C4D3-4802-90B7-23E085D26D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diograms to Re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D 2215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gt; 25 dB at 500, 1000,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and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2000 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gt; 55 dB at 3000, 4000,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or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6000 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D 2216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ignificant Threshold Shift (STS) computed from the average of 2000, 3000, &amp; 4000 Hz in either ear in comparison to the baseline or reference hearing test (DD221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C366-BD68-4B0E-8C27-99C2F15C49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ors Affecting Valid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or test environment - audiometric test booth does not meet background nois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oss-over he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ncooperative pat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39F6-599E-4D70-A535-0267B0F6C0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ew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5000"/>
              </a:lnSpc>
              <a:spcBef>
                <a:spcPts val="700"/>
              </a:spcBef>
              <a:spcAft>
                <a:spcPts val="29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oes an audiometric booth need to be perfectly soundproof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700"/>
              </a:spcBef>
              <a:spcAft>
                <a:spcPts val="29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cessive noise in an audiometric test booth will probably effect which frequ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700"/>
              </a:spcBef>
              <a:spcAft>
                <a:spcPts val="29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en hearing levels between ears at the same frequency differ by 50 to 70 dB, what should you suspect is going 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E31A-AFC4-4E9C-9F42-B566A04C55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0720" y="60948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cabul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ogram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ord of a person’s pure-tone hearing threshold leve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shold – A level of sound that a person can detect 50% of the time or m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ometric Zero – sensitivity of normal, young ad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36CE-4786-4D3E-87E6-4F00FD2428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udiometric Zero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(Ref ANSI S3.6 1996, TDH-39 earphone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 dB Hearing Level at 1000 Hz = 7 dB SP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Object 7"/>
          <p:cNvGraphicFramePr/>
          <p:nvPr/>
        </p:nvGraphicFramePr>
        <p:xfrm>
          <a:off x="1066680" y="1981080"/>
          <a:ext cx="77724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772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8"/>
          <p:cNvGraphicFramePr/>
          <p:nvPr/>
        </p:nvGraphicFramePr>
        <p:xfrm>
          <a:off x="1295280" y="1905120"/>
          <a:ext cx="739152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7391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Picture 5" descr="Z:\Shoeshoe\license.png"/>
          <p:cNvPicPr/>
          <p:nvPr/>
        </p:nvPicPr>
        <p:blipFill>
          <a:blip r:embed="rId5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8F7F-1614-404B-ABFB-527EAEE950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85680" y="2209680"/>
            <a:ext cx="815832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oes 0 dB HL mean the absence of sound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What is the intensity of a 0 dB HL pure-tone at 1000 Hz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3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58C6-D1B4-403F-97DF-934EE5F22E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utput Limits of the DOEHRS-HC Audiomete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-10 to 100 dB H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6EFF-740C-4492-86E8-D18D988892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rial Audi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sholds recorded to the neare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d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on DD Forms 2215 and 2216, entrance physicals and physical exam forms (SF 88 and DD 280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13D-0F2C-4F07-B4FE-B72FEF5D14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rial Audi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2" name="Object 16"/>
          <p:cNvGraphicFramePr/>
          <p:nvPr/>
        </p:nvGraphicFramePr>
        <p:xfrm>
          <a:off x="914400" y="2057400"/>
          <a:ext cx="7334280" cy="45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3342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Picture 4" descr="Z:\Shoeshoe\license.png"/>
          <p:cNvPicPr/>
          <p:nvPr/>
        </p:nvPicPr>
        <p:blipFill>
          <a:blip r:embed="rId3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8T16:20:26Z</dcterms:created>
  <dc:creator>restaek</dc:creator>
  <dc:description/>
  <dc:language>en-US</dc:language>
  <cp:lastModifiedBy>ltxnth002</cp:lastModifiedBy>
  <dcterms:modified xsi:type="dcterms:W3CDTF">2010-07-31T13:28:57Z</dcterms:modified>
  <cp:revision>64</cp:revision>
  <dc:subject/>
  <dc:title>The Audiogram</dc:title>
</cp:coreProperties>
</file>