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C31-7E86-4A18-8862-E1D00900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511-9FE1-4965-8650-DDB4A9A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949-625F-41EA-B23D-8C3AFB39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A75-B202-4B75-93AE-7DFC3427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7EE-DF45-4E7F-82D1-3F469DD6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DE8-95DF-4A70-9F7E-1762329C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9A3-6075-43FE-987E-236D1392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90E-D1C0-4B05-B43E-F35D4AE5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C3B-6C04-4ED1-BD10-5C2EEEC9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65B-3CEA-4EEE-9832-B00F135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45F-22D0-4913-9A57-F302795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C8A-F336-4F65-A904-61B1A9CC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3CE-5C2D-43C6-BDE2-084322027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NACA workshop on the AQM B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2 May 2003, Sand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Odend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pecification of control technology may be stipulated according to the Bill – it should be stipulated that BAT (not a specific technology) be made referenc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t seems almost any law enforcement officer (carrying out duties under NEMA) can require to see whether a licence holder is complying – should stipulate that only aq officers to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maller companies can not afford to have ‘emission control officers’ – this is of concern given that “technical competent” not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xperience – same people commit violations – provides rational for the ‘fit and proper’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Forsee much longer period for transition will be required than 2 years – allocate necessary resources to meet time sched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ack of human and financial resources at municipal level – real hurdle to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hould be more specific for which activities emission control officers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ection 36(1)(I) potentially redundant – makes reference to fenceline monitoring (not applicable for elevated 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gulations required for emissions and air quality monitoring and lab analysis to ensure that the results of monitoring are acceptable to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How will it be decided which companies need to do what type of monitoring – this should b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icensing conditions need to be made explicit – potential investors need to know what they are liable for up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ight of appeal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tudy on emission charges need to be taken into account – treasury does not want different levies for ever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ranting license – criteria used – not very specific – may be interpreted differently by different licensing authorities – uniform requirements and criteria to be stip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rovisions for permits that are presently in proc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ill needs to provide for the prescription (through regulations) of funding arrangements including licensing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u To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6 – International air qua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any regional initiatives (IGAC, SAFARI) to be taken into acc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1) investigation based on scientific princip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3) consultation also with Ministers of Trade &amp; Industries, Finance, Mineral &amp; energy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3) Adding of “</a:t>
            </a:r>
            <a:r>
              <a:rPr b="0" lang="en-ZA" sz="1600" spc="-1" strike="noStrike" u="sng">
                <a:solidFill>
                  <a:srgbClr val="000000"/>
                </a:solidFill>
                <a:uFillTx/>
                <a:latin typeface="Arial"/>
              </a:rPr>
              <a:t>relevant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 stakeholders” and affected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OPs – persistent organic pollutants – also have internation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7 – Offences &amp; Pen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rea sources –what is the onus on a state and lower governmental organ responsible for an area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Odours – regulation – requires further technical spec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ircumstances beyond control – no provision made for this (no malice intended or neglig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u To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7 – Offences &amp; Pen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ho is going to be imprisoned – board, director, control officers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8 – General 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ppeal process not stipulated in the 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ublic consultation – is it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ppeal processes must be defined in 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EC can make regulations – how will public participation be dealt with – should have specific public consu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How are all actions – except for international agreements and EMCAs to be regulated?  MEC regulations to be subject to pp and cabinet with cabinet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abelling, noise, vibration, O3 depleting-  should be national responsibility only – should liaise with energy bill (energy labelling) – reconsider all MEC delegated powers esp labelling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ppropriate fine”  and “appropriate process” – vague termi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u To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8 – General – Consultation and Exe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Basis for exemptions not describ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ublic consultation not dealt with eff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9 – Transitional Arran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Basis for review of license- needs to be specifically dealt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Flo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3) in addition to what Minister must do – must also do these other th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onfusion between penalties and imprisonment – scattered 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inister may or must – must be clarified under section 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Repeal of APPA must go to a Schedule – problem posed – one article repeals APPA – another article refers to a section of AP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emorandum of objectives needs to b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lo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eed to spell out that public participation is part of an exem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45(1) reference to imprisonment – who will do this – need to follow the judici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Vague on dust emissions (e.g. mine dumps) – what is happening to that – provision needs to be made in the Act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bsence of penalties for loc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omments by speakers and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Kate Far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apter 2: Contents of National Framework to be specified in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apter 3: Composition NAQM committee to be specified, either in the Act or by reference to NEAF in 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apter 5: Licensing: EIA and assessment for purposes of this Act to be integ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ference to steam should be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sults of, rather than technology required for emission control should be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ransitional arrangements w r t provisional licenses and presently pending licenses should be specified more cl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2: Prof Anneg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ositive aspect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anagement of ambient AQ as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rotects health and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andatory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ublic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Differentiation between geograph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Recommendations (H Annegarn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National framework </a:t>
            </a:r>
            <a:r>
              <a:rPr b="0" lang="en-ZA" sz="20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include norms an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mplementation strategy is not spec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porting period should be spec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Framework </a:t>
            </a:r>
            <a:r>
              <a:rPr b="0" lang="en-ZA" sz="20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identify substances of concern; for substances with no national standard, risk assessment approach to be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nnegarn recommenda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Provincial and local standards to be stricter than national standards – specific reasons must be motivated for requiring more stringent standards (e.g. ecosystem protection, PSD); this must take technical and economic feasibility into account and must have an appe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Measurement standards must be specified for public/statutory reporting and for compliance reporting by other parties; must also be applicable to provincial and municip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The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Regulations must be compatible with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Organ of state” to b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What does “restoration” mean – should be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Local authority is allowed to set stricter emission standards, not ambient standards (clarification by Annega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oncern about sampling/measurement standard 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3: Gideon Slab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Slab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ct does not provide guidance on composition of NAQM committee; institution is discretionary; should be made mandatory; composition, powers, remuneration should be specified (can be by reference to NEM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velopment and implementation/integration of AQM plan at local level is vague - no guidelines to assist in drawing up, review,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echnical competence of (local) AQ officers is not spec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eparate municipal AQ off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apacity and training of AQ officers is a con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Vehicle emissions to be included in AQ plans (art 15); “international obligations” does not belong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sion for management in contiguous areas (air shed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 to be made available to offi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4: Anneg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Anneg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7 (1) a and 17 (5) are conflicting; “any other situation” must be more clearly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ocal authorities can not designate priority areas; should be allow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U wording (conglomeration/connurbation) as automatic? priority area should be used; air shed should become primary planning area (similar to watershe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sponsibility for amending plans is amb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ime limit for drawing up of plans, also sanctions, extension period should b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re AQMs limited to single pollutants or all? To b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ublic and I&amp;AP consultation should be mandatory in priority area AQM pl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lationship between listed activities for this bill and NEMA list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4: Annegar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Anne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mission standards to specify both amounts and concentrations? Who is responsible for monitoring? – should be and/or but volumetric flow to be stipulated wit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ime frame must be set for drawing up and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ermits and pollution prevention plans: Requirements to be harmoni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maller concerns, other sectors to be allowed for in EM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Noise, vibration, odour vaguely defined; cannot be enforced as presently worded (noise already controlled elsewhere; ECA</a:t>
            </a: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Bill cannot specify monetary issues; “funding arrangements” must be clarified; penalties on municipalities for non-complia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ecautionary principle” to be defined (art 22b) - 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Old “smoke control zones” not mentioned – to become local responsibility? Transition measures might be needed</a:t>
            </a: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4: Annegar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NACA -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term ‘priority areas’ should be used to mean conurbations where airshed air quality management and planning (across municiple and possibly also provincial boundaries) is applicable – still give minister or MEC power to stipulate other priority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t should be stipulated that in ‘priority areas’ municipalities must collaborate (through forming an AQM body/structure) in the development and implementation of a single AQ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ormation of a multi-stakeholder committee to oversee the development and implementation of AQM plans in priority areas should be mand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mplications – additional resources (financial and technical) would be made available from national for AQ management &amp; planning in those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unicipalities which do not form part of the ‘priority area’ planning should be distinguished and their AQM planning responsibilities different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iority area AQM plan negates the need for individual AQM planning by the relevant municip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Odend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ssessment to be undertaken for licence application - duplication of EIA process requirements – neet integration of these assessment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ord “may” apply for a license – should be changed to must apply for a lic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imeframe must be set for notification of current permit 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actical difficulties for various plants – to comply with current permit conditions – Bill should make provision for bringing such plants into line progressive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icenses issued for a site not for a single process – surely provision should be made for activit</a:t>
            </a:r>
            <a:r>
              <a:rPr b="0" lang="en-ZA" sz="1600" spc="-1" strike="noStrike" u="sng">
                <a:solidFill>
                  <a:srgbClr val="000000"/>
                </a:solidFill>
                <a:uFillTx/>
                <a:latin typeface="Arial"/>
              </a:rPr>
              <a:t>ies 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being associated with a lic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icense should be valid indefinitely as long as the process is in operation - but should be reviewed within a specified period (recommended – 5 yea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ositive that it makes provision for routine and upse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finitely looked at fugitive emissions previously but it was not directly reg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26:09Z</dcterms:created>
  <dc:creator>Default User</dc:creator>
  <dc:description/>
  <dc:language>en-US</dc:language>
  <cp:lastModifiedBy>Yvonne Scorgie</cp:lastModifiedBy>
  <dcterms:modified xsi:type="dcterms:W3CDTF">2000-06-21T18:10:15Z</dcterms:modified>
  <cp:revision>60</cp:revision>
  <dc:subject/>
  <dc:title>NACA workshop on the AQM bill</dc:title>
</cp:coreProperties>
</file>