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538C-321E-44A9-8ABE-6D5747A17F18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7F2-B230-459E-B1BF-835FCF28192C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Workshop on the National Environmental Management: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 Air Quality Bill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267080"/>
            <a:ext cx="3429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487692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for Clean Air Northern 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nacal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kshop Objective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the AQ Bill and a progress update on the associated standards sett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ly assess the ability of the AQ Bill to provide the framework necessary for effective air qual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the implications of AQ Bill implementation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urce allocation with gover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sts to pollu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&amp; environmental benefit re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ogramm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373040"/>
          <a:ext cx="836280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3040"/>
                    <a:ext cx="83628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ogramm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447920"/>
          <a:ext cx="8305920" cy="856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05920" cy="85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Yvonne Scorgie</cp:lastModifiedBy>
  <dcterms:modified xsi:type="dcterms:W3CDTF">2003-05-19T19:50:55Z</dcterms:modified>
  <cp:revision>413</cp:revision>
  <dc:subject/>
  <dc:title>PowerPoint Presentation</dc:title>
</cp:coreProperties>
</file>