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0E7-B978-4C54-BC4A-3A400114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134-C1CC-4F5B-84A0-7722BF6D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542-8742-49F0-8097-4450323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7F4-9443-494F-8AD2-2617D12D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B46-B7D3-42DB-8EEE-0A0F5C29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B7B-E588-4E68-BD54-C3E2F738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3ED-EB03-46FD-B6B4-5B1047DF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926-352A-44A1-BD62-776A3890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E8F-BF29-4649-B6C6-395ABB13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3C6-C284-43CF-8832-F7493116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1CC-888A-4602-85A4-F9C4528E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BC9-13F1-4DDA-BFBF-D4DB7E32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2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3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82F5-CDD8-4F11-B708-09C317F409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n overview of the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ir Quality Bil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073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te Far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s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rovincial ambient quality and emission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799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stances or mixtures which present a threat to health or environment in a province may be identified by the ME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vincial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issions from point or non-point sour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be establ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 may only make provincial standards stricter than nat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 may differentiate between different geographical areas within the provi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ultative process must be follow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Local emission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8016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stances or mixtures which present a threat to health or environment in a municipality may be identified by that municipal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cal standards for emissions from point or non-point sources may be establ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unicipality may only make local standards stricter than national or provincial standar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ultative process must be follow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mbient air quality measurement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ister obliged to make regulations regarding the measurement of: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issions from point or non-point sour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3 – Institutional and planning matter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05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tional Air Quality Management Committe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visory committee to Minist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ir quality office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ional air quality offic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ncial air quality office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l air quality office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-ordinate air quality management within jurisdictio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quired to co-ordinate activities within national framewo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ir quality management pl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integrated in EIP/ EMP (NEM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included in municipal integrated development pl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4 – Air quality management measures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988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ority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lara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agement - preparation of AQM’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ations for implementing and enforcing priority area AQM’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d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ing of activities – national and provincial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ults in atmospheric emissions with significant detrimental effect on environme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mospheric emission license requi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4 – cont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99640" y="1890720"/>
            <a:ext cx="7512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olled emit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laration of appliance/ activity – national and provincia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consultative process require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ission standard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asurement of emiss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meas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lution prevention plans - in respect of priority pollutant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ronmental management co-operation agreement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gnition programm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ol of noise and vibratio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prohibition against offensive odou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5 – Licensing of listed activi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844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censing auth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ropolitan and district municipalit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mospheric emission licenses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tier - provisional and f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lication procedur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ssing fe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essment on effect on air qualit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blic notificatio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s to be considered (effect, prevention/ mitigation measures, fit and proper person, IAP submission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5 – </a:t>
            </a: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cont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512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ent (duration, point and non-point source emission concentration, point source and ambient measurements and reporting, GHG measurements, control technology, odour and vibration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f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iation, review and renew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ission control officer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designated by holder of atmospheric emission licens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iteria for fit and proper pers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6 – International air quality managemen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5121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lates to trans-boundary air pol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ister may regulate to prevent, control or correct releases that have an effect outside of S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7 – Offences and penal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5121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It is an offence 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onstruct infrastructure for, or to conduct a listed activity without a licens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ause the emission of any offensive od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ontravene a condition of an atmospheric emission licens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Supply fake or misleading info in an application or to an air quality offic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xceed pollutant concentrations specified for a controlled emitter or listed activ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Penalties can take into accoun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Severity of offence in terms of impac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Monetary and other benefits accrue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xtent of contribution to pollution lo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urpos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mework for setting norms and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itutional frameworks, roles and responsibiliti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quality management planni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quality monitoring and information manageme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quality management measu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iance and enforc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8 – General matter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5640" y="2060640"/>
            <a:ext cx="72010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international obligation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MCA’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missions from point and non-point sourc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noise and vibration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open fires or incinerato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ozone depleting substanc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odes of practic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records and return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labelling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8 – </a:t>
            </a: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cont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1890720"/>
            <a:ext cx="7512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trading schem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appeal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incentiv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ltation pro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4600" indent="-533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ltation – as appropriate in the circumstanc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4600" indent="-533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blic participation – 21 days com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emp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4600" indent="-533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supported by reas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9 – Miscellaneous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280" y="1890720"/>
            <a:ext cx="7512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9840" indent="-339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A to be repea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Tahoma"/>
              </a:rPr>
              <a:t>Retrospective applica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ansitional arrangeme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ing registration certificate – deemed to be provisional atmospheric emission license for 2 year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application for final license must be done within 1 year – or provisional becomes null &amp; void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d activities - deemed to be APPA schedule 2 in meantim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standards - deemed to be APPA ambient air quality guidelines in mean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bjectives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843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, restore and enhance air quality in South Afric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able public involvement and participation in the protection of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ure access to information abou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risk to healt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the regulatory framework for air quality manageme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 the efficiency of administration of air quality legisla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effect to international obligations e.g. Kyo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ntex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1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AQM Bill must be read wit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M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te Paper on Integrated Pollution and Waste Manag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1 - Interpret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inology includ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ir pollution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ncludes fly ash, steam and odour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issions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ncludes both point and non-point sourc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n-point source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ncludes mining activities and stockp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2 – Air quality norms and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9880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framework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nd emission standard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ing and information management standard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n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nd emission standard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standards for emiss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 measure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ational framework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ister required to establish national framework with norms and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int and non-point emission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i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manag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ill bind all organs of state and may be delegated responsibilities for implement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y differentiate between different geographical a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ust follow a consultative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ational ambient and emission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80168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stances or mixtures which present a threat to health or environment may be identif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tional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issions from point or non-point sour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y be establish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ational monitoring and information management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7512120" cy="38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standards for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ing by municipalities and provinc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ion and management of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06:11:36Z</dcterms:created>
  <dc:creator>Default User</dc:creator>
  <dc:description/>
  <dc:language>en-US</dc:language>
  <cp:lastModifiedBy>Default User</cp:lastModifiedBy>
  <dcterms:modified xsi:type="dcterms:W3CDTF">2003-05-21T13:34:28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stOperation">
    <vt:lpwstr>SavedAs</vt:lpwstr>
  </property>
</Properties>
</file>