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DCA-C6C8-4B13-99FA-0058560F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CE5-A9DA-406C-9062-B5B62B4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945-7CA8-4743-A9EC-6B00C7C5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165-A374-4942-9C74-A15F17F7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91E7-5EA6-4F68-AAB9-A75EA5D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BC6B-1ADC-4774-90D6-219122A1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0C2B-9B6E-4A80-8A49-5A6DBEA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5DD-9738-462C-A37F-F11066A5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0D15-A5BB-4DAC-946F-84916A4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6E3-3869-475E-B56D-EC1D87BA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3F1-DAAE-441D-B195-256635C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63B-0902-47D0-9B15-5BC47E67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12FD-346F-493D-9A21-911D6DA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C295-DEC3-4185-AE6C-1E432EC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9EC-2C26-4EF6-B21E-0B48CC0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165-631B-4E57-8074-F7EED32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2F20-590E-43EB-955E-0434FD93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A23-F295-40D7-8F64-1EDCFC7C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603-4331-4C45-9C1A-81F0C3F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788-304B-497A-B0C5-6BD23335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8A7-EEE8-4DAF-B6A6-1E40F1E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9FF-565C-4C15-931A-CEE2FF15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C2E-D2AB-41FA-A497-FF08843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CF1-2167-4425-95E1-E38DB1D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0D5-6B1C-42AC-BE42-E89CD16A2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3E3-346C-4ADD-B3EC-A26D4A0DD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IR QUALITY BILL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HAPTERS 6 - 9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ERNATIONAL AIR QUALITY MANA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FFENCES AND PENA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1: REGUL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2 CONSULTATION PRO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3 EXEM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SCELLANEO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CHAPTER 9: MISCELLANEO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peal of legisl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ansitional arrangements iro RC’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isting RC’s deemed PRC’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tice within 90 d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olders to apply within  1 year otherwise PRC becomes voi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view of license possi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?? Basis for review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IETER DU TOI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 6 - INTERNATIONAL AIR QUALITY MANAGEMENT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ns boundary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1)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wer to investigate:  “….may reasonably be anticipated to contribute to…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B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P that (likely) violates, an international agreement iro prevention, control or correction of an emiss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2) “…significant detrimental effect in another country on air quality, health or environment…”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REGULATIONS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3)  Consultation - Foreign Affair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and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ONSID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egional Initiatives. (ICAG, DEBITS, SAFARI, APIN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ADEC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CCC &amp; KYOTO ??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1)  Investigation based on scientific principle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3)  Consultation also with Ministers of Trade &amp; Industries, Finance, Mineral &amp; Energy or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(3) Adding of “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relevant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stakeholders” and affected parti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OPS et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7 - OFFENCES AND PENAL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1) : License conditions, 21/28, false/misleading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2) &amp; 44(3): Exceeding emission lim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?? Area sources and onus on state and lower governmental organs. Odours, circumstances beyond control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s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It is an offence t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ause the emission of any offensive odou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travene a condition of an atmospheric emission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Penalti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isonment (&lt;10 years) and/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ne in relation to certain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00"/>
                </a:solidFill>
                <a:latin typeface="Arial"/>
              </a:rPr>
              <a:t>Penalties can take into accou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Severity of offence in terms of impact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Monetary and other benefits accrued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Extent of contribution to pollution load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 MD, turnover or profit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8  - GENERAL MATT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rt 46: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REGULATION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BY MINIS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sistent or not with 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4 Aspects mention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ppeal process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ipul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(I) International agreements, public consultation,  appeal process in Act, incentives, appeal process EMCA’s, any other matter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47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by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tto for sub sections c to n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??concerns as above except for international issues and EMCA’s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Gener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enalties: Imprisonment &lt; 5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nd/or “appropriate fine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Consultative process, “as appropriate” need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GENERAL - CONSULTATION &amp; EXEMP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nister to consult cabinet members &amp; MEC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C to consult with executive council, Minister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50 describes the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PPLICATION FOR EXEMTIONS POSSIBL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?? Basis, consultation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29:58Z</dcterms:created>
  <dc:creator>Pieter Du Toit</dc:creator>
  <dc:description/>
  <dc:language>en-US</dc:language>
  <cp:lastModifiedBy>Pieter Du Toit</cp:lastModifiedBy>
  <cp:lastPrinted>2003-05-21T20:07:44Z</cp:lastPrinted>
  <dcterms:modified xsi:type="dcterms:W3CDTF">2003-05-22T09:50:39Z</dcterms:modified>
  <cp:revision>9</cp:revision>
  <dc:subject/>
  <dc:title>AIR QUALITY BILL</dc:title>
</cp:coreProperties>
</file>