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E8C3-1A88-451D-99B4-4949DA618205}" type="slidenum"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A3C6-8224-4C16-B276-2AD6AB06FAE7}" type="slidenum"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81090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7360" y="3839040"/>
            <a:ext cx="81090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7360" y="38390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32840" y="38390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9120" y="13712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0520" y="13712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7360" y="38390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9120" y="38390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60520" y="38390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77360" y="137124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395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5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96720" y="380520"/>
            <a:ext cx="83505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5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77360" y="38390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395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2840" y="38390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7360" y="3839040"/>
            <a:ext cx="81090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7360" y="137124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1523520"/>
            <a:ext cx="8109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Arial"/>
              </a:rPr>
              <a:t>Chapter 3: Institutional &amp; Planning Matters</a:t>
            </a:r>
            <a:endParaRPr b="1" lang="en-US" sz="48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3886200"/>
            <a:ext cx="640080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563904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deon Slabbe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vironmental Management Department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ty of Johannesbu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Typical contents of IDPs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year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ks planning processes with budgeting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of 2010 &amp; 2030 vision for 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porate Planning Unit’s respon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DP = RSDF, part of Environmental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QMP for Joburg is part of this ID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ir Quality Management Plans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ents of air quality management pla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QM Plans must seek to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give effect to Chapter 3 of the NEMA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143000" indent="-228600"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improve air quality across the country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143000" indent="-228600"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address the effects of emissions from fossil fuel use in residential application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143000" indent="-228600"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implement obligations in respect of international agreement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143000" indent="-228600"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give effect to best practice in air quality management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ir Quality Management Plans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15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ents of air quality management pla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ribe how department, province or municipality will give effect to its air quality management pl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mply with any other requirements as may be prescrib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>
              <a:spcBef>
                <a:spcPts val="29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orting on AQM plan implement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nnual report (to be submitted in terms of section 16(1)(b) of the NEMA must contain information on AQMP implementation including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air quality management initiatives undertaken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level of compliance with national air quality standard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measures taken to secure compliance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air quality monitoring activitie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ir Quality Management Plans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24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positive that AQM planning is being integrated into existing environmental and spatial planning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24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s of note &amp; issues of concer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22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ttle guidance given on AQM plan development processes and actual content of AQM pl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22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 reference to guidelines to be issued to assist AQM Plan development, implementation, review &amp; revis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22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nvironmental Implementation and Management Plans are to be revised during 200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1800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sufficient time to incorporate AQM plans or will this need to wait for the next revision (compulsory 4-yearly revisions)?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35020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Questions &amp; Comments?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10900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tion 12 - National Air Quality Management Committe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tion 13 - Appointment of air quality offic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tions 14 to 16 - Air quality management pla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35020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ims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a brief overview of contents of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tion 12 - National Air Quality Management Committe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tion 13 - Appointment of air quality offic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tions 14 to 16 - Air quality management pla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light points of note and identify potential issues associated with both the Bill itself and with its 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National Air Quality Management Committee</a:t>
            </a:r>
            <a:endParaRPr b="1" lang="en-US" sz="3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ster may establish a NAQM Committee to advise on the implementation of the 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ster to set o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mposition of the Committe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ditions of appointment of memb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unctions and functioning of the Committe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ny other matter related to the Committe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National Air Quality Management Committee</a:t>
            </a:r>
            <a:endParaRPr b="1" lang="en-US" sz="3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s of no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inister given much discretionary pow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 guidance given on required composition of Committe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unlike approach adopted in the NEMA for National Environmental Advisory Forum (NEAF) establishment where the following is clearly stipulated: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3" marL="1551960" indent="-221400">
              <a:spcBef>
                <a:spcPts val="1125"/>
              </a:spcBef>
              <a:buClr>
                <a:srgbClr val="00cc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that the Forum comprise stakeholder representatives</a:t>
            </a:r>
            <a:endParaRPr b="0" lang="en-US" sz="1800" spc="-1" strike="noStrike">
              <a:solidFill>
                <a:srgbClr val="33ccff"/>
              </a:solidFill>
              <a:latin typeface="Arial"/>
            </a:endParaRPr>
          </a:p>
          <a:p>
            <a:pPr lvl="3" marL="1551960" indent="-221400">
              <a:spcBef>
                <a:spcPts val="1125"/>
              </a:spcBef>
              <a:buClr>
                <a:srgbClr val="00cc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that nominations from organized labour, organized business, NGOs &amp; CBOs be invited</a:t>
            </a:r>
            <a:endParaRPr b="0" lang="en-US" sz="1800" spc="-1" strike="noStrike">
              <a:solidFill>
                <a:srgbClr val="33ccff"/>
              </a:solidFill>
              <a:latin typeface="Arial"/>
            </a:endParaRPr>
          </a:p>
          <a:p>
            <a:pPr lvl="3" marL="1551960" indent="-221400">
              <a:spcBef>
                <a:spcPts val="1125"/>
              </a:spcBef>
              <a:buClr>
                <a:srgbClr val="00cc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that the Minister indicates the procedure to be adopted regarding nominations</a:t>
            </a:r>
            <a:endParaRPr b="0" lang="en-US" sz="1800" spc="-1" strike="noStrike">
              <a:solidFill>
                <a:srgbClr val="33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National Air Quality Management Committee</a:t>
            </a:r>
            <a:endParaRPr b="1" lang="en-US" sz="3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issues of concer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ctual existence of the  Committee left to Minister’s discre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it “may” or may not be established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1" marL="713160" indent="-27432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t is not made explicit whether the Committee will be composed of governmental personnel, stakeholder representatives and/or of non-governmental technical expert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relationship of the Committee to the NEAF (currently does not exist) and the National Committee on Climate Change is uncertai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ppointment of air quality officers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15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ster to designat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ational air quality offi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sponsible for co-ordinating air quality management matters in national govern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5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ncial MECs to designat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vincial air quality offi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sponsible for co-ordinating air quality matters in the provi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5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nicipalities to designate a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local) air quality offi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sponsible for co-ordinating air quality matters in municipal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ust perform duties required in terms of the Ac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air quality management plan dev, air quality monitoring, issuing of licenses to listed activities, local standard setting, etc.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ppointment of air quality officers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 quality officer can delegate a duty or power to a person in the service of their administrations emplo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 quality officers must co-ordinate their activities in a manner as may be set out in the national fra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ppointment of air quality officers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 of note and issues of concer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chnical competence of air quality officers not stipulat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unlike in the case of persons responsible for listed activities and emission control officers - both of which are required to be technically competent - section 42(2) &amp; section 42 (d)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mplementation will necessitate considerable capacity building at local, provincial and national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echanisms for ensuring the co-ordination of local, provincial and national officer activities unclear from the national framework (section 6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ir Quality Management Plans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be undertaken b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ach national dept. or province responsible for preparing environmental implementation or environmental management plans - must include AQM Pl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ach municipality - include AQM Plan in its integrated development plan (ID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bookx" descr=""/>
          <p:cNvPicPr/>
          <p:nvPr/>
        </p:nvPicPr>
        <p:blipFill>
          <a:blip r:embed="rId1"/>
          <a:stretch/>
        </p:blipFill>
        <p:spPr>
          <a:xfrm>
            <a:off x="5562720" y="4267080"/>
            <a:ext cx="320040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13:30:54Z</dcterms:created>
  <dc:creator>Yvonne Scorgie</dc:creator>
  <dc:description/>
  <dc:language>en-US</dc:language>
  <cp:lastModifiedBy>GJMC</cp:lastModifiedBy>
  <dcterms:modified xsi:type="dcterms:W3CDTF">2003-05-21T13:59:16Z</dcterms:modified>
  <cp:revision>448</cp:revision>
  <dc:subject/>
  <dc:title>PowerPoint Presentation</dc:title>
</cp:coreProperties>
</file>