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8A6-4224-4320-BCC4-E9E918DC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92F-FBB3-4DFB-88F5-C58DB2A8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C42-0AE6-4D91-8E76-495A64D7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F51-0182-409C-B33C-7BE72DC1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061D-8077-48C1-AD2C-B92FCC3C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9AF1-2AFE-46C1-B977-4A4CD425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4776-3A02-4C6E-9896-C9061EFB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275B-FA80-4305-AE46-41E057A8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5466-764C-4FEF-BF50-FE9873BB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203DC-68C6-45BD-A4E7-2906C58B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0FC9-65E0-4D33-A262-DE2C7CDF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8E8-3F29-4815-A726-E1FDC34C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CCF3-554B-4535-B0A9-EB92E4E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9417-8F59-4375-AAEF-3A34D22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67F2-6F9C-4E58-8559-52D69573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09B9-FB48-4AB6-B9FF-D33E76330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9D91-D036-41C6-8B92-FF615A7C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963-44A7-4AAA-9AF4-4E80880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F2F-B2CD-4CAB-9AAE-A14EFD52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EB5-ACCD-4AF0-B5E6-9AB4BB35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D79D-7FB3-48CC-AC03-008D9F0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F7E-BE6E-4FA6-B801-7D6C4E2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4F2-800A-4873-8A3D-8EB4F73B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A59-FD67-40B0-9EC3-5D510BAE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7A93-6E4D-4972-91EC-45D07FA99B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FC1F-C989-4BB0-BF78-8FA9D22F1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AIR QUALITY BILL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HAPTERS 6 - 9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ERNATIONAL AIR QUALITY MANA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FFENCES AND PENAL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1: REGULA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2 CONSULTATION PROC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ART 3 EXEMP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SCELLANEOU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CHAPTER 9: MISCELLANEOU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Repeal of legisl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ransitional arrangements iro RC’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isting RC’s deemed PRC’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Notice within 90 day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Holders to apply within  1 year otherwise PRC becomes voi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eview of license possib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?? Basis for review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IETER DU TOI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 6 - INTERNATIONAL AIR QUALITY MANAGEMENT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rans boundary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1)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Power to investigate:  “….may reasonably be anticipated to contribute to…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B air pollu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17000" indent="-203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P that (likely) violates, an international agreement iro prevention, control or correction of an emiss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2) “…significant detrimental effect in another country on air quality, health or environment…”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REGULATIONS!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A43(3)  Consultation - Foreign Affair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and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CONSIDER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egional Initiatives. (ICAG, DEBITS, SAFARI, APIN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SADEC Countr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FCCC &amp; KYOTO ??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1)  Investigation based on scientific principles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 (3)  Consultation also with Ministers of Trade &amp; Industries, Finance, Mineral &amp; Energy or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43(3) Adding of “</a:t>
            </a:r>
            <a:r>
              <a:rPr b="0" i="1" lang="en-US" sz="2800" spc="-1" strike="noStrike" u="sng">
                <a:solidFill>
                  <a:srgbClr val="00ff00"/>
                </a:solidFill>
                <a:uFillTx/>
                <a:latin typeface="Tahoma"/>
              </a:rPr>
              <a:t>relevant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 stakeholders” and affected parti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POPS etc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7 - OFFENCES AND PENALTI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1) : License conditions, 21/28, false/misleading infor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44(2) &amp; 44(3): Exceeding emission limi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?? Area sources and onus on state and lower governmental organs. Odours, circumstances beyond control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Offense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00"/>
                </a:solidFill>
                <a:latin typeface="Arial"/>
              </a:rPr>
              <a:t>It is an offence to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struct infrastructure for, or to conduct a listed activity without a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ause the emission of any offensive odou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Contravene a condition of an atmospheric emission license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Supply fake or misleading info in an application or to an air quality officer;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00"/>
                </a:solidFill>
                <a:latin typeface="Arial"/>
              </a:rPr>
              <a:t>Exceed pollutant concentrations specified for a controlled emitter or listed activity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ahoma"/>
              </a:rPr>
              <a:t>Penaltie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mprisonment (&lt;10 years) and/o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ne in relation to certain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00"/>
                </a:solidFill>
                <a:latin typeface="Arial"/>
              </a:rPr>
              <a:t>Penalties can take into accou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Severity of offence in terms of impact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Monetary and other benefits accrued;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02880" indent="-180360">
              <a:lnSpc>
                <a:spcPct val="100000"/>
              </a:lnSpc>
              <a:spcBef>
                <a:spcPts val="700"/>
              </a:spcBef>
              <a:buClr>
                <a:srgbClr val="666666"/>
              </a:buClr>
              <a:buSzPct val="60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00"/>
                </a:solidFill>
                <a:latin typeface="Arial"/>
              </a:rPr>
              <a:t>Extent of contribution to pollution load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 MD, turnover or profit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CHAPTER 8  - GENERAL MATTER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rt 46: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REGULATION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BY MINIS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onsistent or not with Ac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4 Aspects mention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-2811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ppeal process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no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tipulat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?? (I) International agreements, public consultation,  appeal process in Act, incentives, appeal process EMCA’s, any other matter 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GENERAL MAT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47: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by ME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tto for sub sections c to n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Tahoma"/>
              </a:rPr>
              <a:t>??concerns as above except for international issues and EMCA’s ??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Regulations Gener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Penalties: Imprisonment &lt; 5 year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And/or “appropriate fine”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Consultative process, “as appropriate” need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ahoma"/>
              </a:rPr>
              <a:t>GENERAL - CONSULTATION &amp; EXEMPTION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inister to consult cabinet members &amp; MEC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EC to consult with executive council, Minister and publi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t 50 describes the proc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PPLICATION FOR EXEMTIONS POSSIBLE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?? Basis, consultation?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1T18:29:58Z</dcterms:created>
  <dc:creator>Pieter Du Toit</dc:creator>
  <dc:description/>
  <dc:language>en-US</dc:language>
  <cp:lastModifiedBy>Pieter Du Toit</cp:lastModifiedBy>
  <cp:lastPrinted>2003-05-21T20:07:44Z</cp:lastPrinted>
  <dcterms:modified xsi:type="dcterms:W3CDTF">2003-05-22T09:50:39Z</dcterms:modified>
  <cp:revision>9</cp:revision>
  <dc:subject/>
  <dc:title>AIR QUALITY BILL</dc:title>
</cp:coreProperties>
</file>