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F100-09FE-4440-8816-D866C166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A88C-A94B-47BC-BC02-D08FA4EF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BBC2-AD81-428B-BD27-69C1699D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6EE5-01D1-4F9E-950F-238B3514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17BB-5EEA-4372-932F-D6098C1D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3455-CDB8-43D2-AE19-E4DAC798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929C-6521-4722-837A-918C83F5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FA5A-8677-4F8D-871B-513834E5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4175-9384-4B89-8045-0C1EC8EC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7CBE-562E-46C8-A757-4A274441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3BB0-DF6E-4305-9967-49B3D9DCA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9F96-BF3C-427D-BC78-5C9C6A02B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2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3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59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DC24-1BD4-4E15-9F8D-AA2020B0F48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An overview of the 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Air Quality Bill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073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ate Far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so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y 200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51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Provincial ambient quality and emission standard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15640" y="1844640"/>
            <a:ext cx="7799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ubstances or mixtures which present a threat to health or environment in a province may be identified by the ME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ovincial standards for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bient air quality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issions from point or non-point source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y be establish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EC may only make provincial standards stricter than nationa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EC may differentiate between different geographical areas within the provin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sultative process must be follow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751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Local emission standard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1280" y="1844280"/>
            <a:ext cx="80168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ubstances or mixtures which present a threat to health or environment in a municipality may be identified by that municipalit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ocal standards for emissions from point or non-point sources may be establish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unicipality may only make local standards stricter than national or provincial standard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sultative process must be follow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99640" y="620280"/>
            <a:ext cx="751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Ambient air quality measurement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7512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nister obliged to make regulations regarding the measurement of: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bient air quality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issions from point or non-point sourc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99640" y="620280"/>
            <a:ext cx="751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hapter 3 – Institutional and planning matter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80596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ational Air Quality Management Committe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visory committee to Ministe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ir quality officer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tional air quality officer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vincial air quality officer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cal air quality officer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-ordinate air quality management within jurisdiction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quired to co-ordinate activities within national framework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ir quality management plan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 be integrated in EIP/ EMP (NEMA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 be included in municipal integrated development pla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99640" y="620280"/>
            <a:ext cx="751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hapter 4 – Air quality management measures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79880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iority area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388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claratio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388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nagement - preparation of AQM’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388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gulations for implementing and enforcing priority area AQM’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1800" indent="-36180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sted activ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388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sting of activities – national and provincial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388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ults in atmospheric emissions with significant detrimental effect on environmen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388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mospheric emission license requir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hapter 4 – cont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99640" y="1890720"/>
            <a:ext cx="75121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trolled emitt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84880" indent="-348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claration of appliance/ activity – national and provincial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84880" indent="-348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ffffff"/>
                </a:solidFill>
                <a:latin typeface="Tahoma"/>
              </a:rPr>
              <a:t>consultative process required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84880" indent="-348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mission standard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84880" indent="-348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asurement of emission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ther measu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84880" indent="-348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llution prevention plans - in respect of priority pollutant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84880" indent="-348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vironmental management co-operation agreement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84880" indent="-348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cognition programme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84880" indent="-348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trol of noise and vibration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84880" indent="-348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ffffff"/>
                </a:solidFill>
                <a:latin typeface="Tahoma"/>
              </a:rPr>
              <a:t>prohibition against offensive odour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hapter 5 – Licensing of listed activiti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99640" y="1844280"/>
            <a:ext cx="7844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censing author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tropolitan and district municipaliti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mospheric emission licenses: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 tier - provisional and fi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pplication procedur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cessing fe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sessment on effect on air qualit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ublic notification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actors to be considered (effect, prevention/ mitigation measures, fit and proper person, IAP submissions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hapter 5 – </a:t>
            </a:r>
            <a:r>
              <a:rPr b="1" i="1" lang="en-US" sz="3600" spc="-1" strike="noStrike">
                <a:solidFill>
                  <a:srgbClr val="eaeaea"/>
                </a:solidFill>
                <a:latin typeface="Tahoma"/>
              </a:rPr>
              <a:t>cont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99640" y="1773360"/>
            <a:ext cx="75121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tent (duration, point and non-point source emission concentration, point source and ambient measurements and reporting, GHG measurements, control technology, odour and vibrations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ansfer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ariation, review and renew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mission control officer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 be designated by holder of atmospheric emission licens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riteria for fit and proper person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51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hapter 6 – International air quality management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51212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lates to trans-boundary air pollu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inister may regulate to prevent, control or correct releases that have an effect outside of S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hapter 7 – Offences and penalti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5121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ffffff"/>
                </a:solidFill>
                <a:latin typeface="Tahoma"/>
              </a:rPr>
              <a:t>It is an offence t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Construct infrastructure for, or to conduct a listed activity without a licens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Cause the emission of any offensive odour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Contravene a condition of an atmospheric emission licens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Supply fake or misleading info in an application or to an air quality officer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Exceed pollutant concentrations specified for a controlled emitter or listed activit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ffffff"/>
                </a:solidFill>
                <a:latin typeface="Tahoma"/>
              </a:rPr>
              <a:t>Penalties can take into accoun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Severity of offence in terms of impact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Monetary and other benefits accrued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Extent of contribution to pollution loa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Purpose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amework for setting norms and standards for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3172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titutional frameworks, roles and responsibilitie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3172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r quality management planning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3172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r quality monitoring and information managemen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3172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r quality management measure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3172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liance and enforceme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hapter 8 – General matter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5640" y="2060640"/>
            <a:ext cx="72010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gulation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international obligation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EMCA’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emissions from point and non-point source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noise and vibration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open fires or incinerator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ozone depleting substance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codes of practic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records and return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labelling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hapter 8 – </a:t>
            </a:r>
            <a:r>
              <a:rPr b="1" i="1" lang="en-US" sz="3600" spc="-1" strike="noStrike">
                <a:solidFill>
                  <a:srgbClr val="eaeaea"/>
                </a:solidFill>
                <a:latin typeface="Tahoma"/>
              </a:rPr>
              <a:t>cont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71280" y="1890720"/>
            <a:ext cx="75121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trading scheme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appeal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incentiv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sultation proc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074600" indent="-5331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sultation – as appropriate in the circumstance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074600" indent="-5331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ublic participation – 21 days commen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emp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074600" indent="-5331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 be supported by reason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hapter 9 – Miscellaneous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71280" y="1890720"/>
            <a:ext cx="75121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39840" indent="-3398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PPA to be repeal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Tahoma"/>
              </a:rPr>
              <a:t>Retrospective applicatio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ransitional arrangement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40240" indent="-331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isting registration certificate – deemed to be provisional atmospheric emission license for 2 year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40240" indent="-331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Tahoma"/>
              </a:rPr>
              <a:t>application for final license must be done within 1 year – or provisional becomes null &amp; void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40240" indent="-331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sted activities - deemed to be APPA schedule 2 in meantime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40240" indent="-331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bient standards - deemed to be APPA ambient air quality guidelines in meantim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40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40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40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Objectives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78436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3172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tect, restore and enhance air quality in South Afric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3172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able public involvement and participation in the protection of air quality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3172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sure access to information about air quality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3172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duce risk to health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3172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ngthen the regulatory framework for air quality managemen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3172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rove the efficiency of administration of air quality legislatio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3172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ive effect to international obligations e.g. Kyo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ontext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31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AQM Bill must be read with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31720" indent="-352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itution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31720" indent="-352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MA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31720" indent="-352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ite Paper on Integrated Pollution and Waste Managem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hapter 1 - Interpretation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rminology includes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531720" indent="-352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ir pollution”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includes fly ash, steam and odour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31720" indent="-352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missions”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includes both point and non-point source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31720" indent="-352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on-point source”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includes mining activities and stockpi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31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751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hapter 2 – Air quality norms and standard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98804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tional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388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tional framework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388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bient and emission standard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388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itoring and information management standard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1800" indent="-36180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vin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388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bient and emission standard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388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cal standards for emissi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1800" indent="-36180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388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bient air quality measuremen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National framework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848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inister required to establish national framework with norms and standards for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bient air quality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int and non-point emission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itoring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ormation manageme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ill bind all organs of state and may be delegated responsibilities for implement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y differentiate between different geographical are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ust follow a consultative proc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51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National ambient and emission standard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71280" y="1988640"/>
            <a:ext cx="801684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ubstances or mixtures which present a threat to health or environment may be identifi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ational standards for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bient air quality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issions from point or non-point source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y be establishe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8244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National monitoring and information management standard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71280" y="2133360"/>
            <a:ext cx="7512120" cy="38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tional standards for: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itoring by municipalities and province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llection and management of dat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5T06:11:36Z</dcterms:created>
  <dc:creator>Default User</dc:creator>
  <dc:description/>
  <dc:language>en-US</dc:language>
  <cp:lastModifiedBy>Default User</cp:lastModifiedBy>
  <dcterms:modified xsi:type="dcterms:W3CDTF">2003-05-21T13:34:28Z</dcterms:modified>
  <cp:revision>1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astOperation">
    <vt:lpwstr>SavedAs</vt:lpwstr>
  </property>
</Properties>
</file>