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84B2-4E0A-4B14-B879-96F71411B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A40A-D21F-43D7-8E95-ED17EF9CB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3674-1604-4BD1-9686-204A109F8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1D5D-73C5-4D3D-BAE4-146E6AE22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AE58-75D0-40E4-AD25-FB22089EB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FCB2-2EAB-4E3B-913B-0413BE5E7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8C28-5DDE-403B-BE86-9FDA005DB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BE2A-98DD-4054-AB28-050C174E9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944C-5FBB-4BFB-8D25-9D7043588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C22E-9030-4F6E-9E1D-B4E3C045C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AD53-42F8-494E-9E7D-8E81299F7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AA7C-601D-484E-B117-50BF70425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9112A-E2E3-42FE-A910-494D3F70C2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NACA workshop on the AQM Bi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22 May 2003, Sand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Chapter 5: Odendaal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800" spc="-1" strike="noStrike">
                <a:solidFill>
                  <a:srgbClr val="000000"/>
                </a:solidFill>
                <a:latin typeface="Arial"/>
              </a:rPr>
              <a:t>Odenda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Specification of control technology may be stipulated according to the Bill – it should be stipulated that BAT (not a specific technology) be made reference 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It seems almost any law enforcement officer (carrying out duties under NEMA) can require to see whether a licence holder is complying – should stipulate that only aq officers to 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Smaller companies can not afford to have ‘emission control officers’ – this is of concern given that “technical competent” not defin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Experience – same people commit violations – provides rational for the ‘fit and proper’ requir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Forsee much longer period for transition will be required than 2 years – allocate necessary resources to meet time schedu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Lack of human and financial resources at municipal level – real hurdle to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Chapter 5: Odendaal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000" spc="-1" strike="noStrike">
                <a:solidFill>
                  <a:srgbClr val="000000"/>
                </a:solidFill>
                <a:latin typeface="Arial"/>
              </a:rPr>
              <a:t>Flo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"/>
              </a:rPr>
              <a:t>Should be more specific for which activities emission control officers are requi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"/>
              </a:rPr>
              <a:t>Section 36(1)(I) potentially redundant – makes reference to fenceline monitoring (not applicable for elevated sourc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"/>
              </a:rPr>
              <a:t>Regulations required for emissions and air quality monitoring and lab analysis to ensure that the results of monitoring are acceptable to author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"/>
              </a:rPr>
              <a:t>How will it be decided which companies need to do what type of monitoring – this should be clarif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"/>
              </a:rPr>
              <a:t>Licensing conditions need to be made explicit – potential investors need to know what they are liable for up fro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"/>
              </a:rPr>
              <a:t>Right of appeal requi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Chapter 5: Odendaal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000" spc="-1" strike="noStrike">
                <a:solidFill>
                  <a:srgbClr val="000000"/>
                </a:solidFill>
                <a:latin typeface="Arial"/>
              </a:rPr>
              <a:t>Flo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"/>
              </a:rPr>
              <a:t>Study on emission charges need to be taken into account – treasury does not want different levies for everyt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"/>
              </a:rPr>
              <a:t>Granting license – criteria used – not very specific – may be interpreted differently by different licensing authorities – uniform requirements and criteria to be stipul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"/>
              </a:rPr>
              <a:t>Provisions for permits that are presently in proces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"/>
              </a:rPr>
              <a:t>Bill needs to provide for the prescription (through regulations) of funding arrangements including licensing f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Chapters 6-9: du Toit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800" spc="-1" strike="noStrike">
                <a:solidFill>
                  <a:srgbClr val="000000"/>
                </a:solidFill>
                <a:latin typeface="Arial"/>
              </a:rPr>
              <a:t>Du Toi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ZA" sz="1600" spc="-1" strike="noStrike">
                <a:solidFill>
                  <a:srgbClr val="000000"/>
                </a:solidFill>
                <a:latin typeface="Arial"/>
              </a:rPr>
              <a:t>Chapter 6 – International air quality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Many regional initiatives (IGAC, SAFARI) to be taken into accou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43(1) investigation based on scientific principle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43(3) consultation also with Ministers of Trade &amp; Industries, Finance, Mineral &amp; energy and oth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43(3) Adding of “</a:t>
            </a:r>
            <a:r>
              <a:rPr b="0" lang="en-ZA" sz="1600" spc="-1" strike="noStrike" u="sng">
                <a:solidFill>
                  <a:srgbClr val="000000"/>
                </a:solidFill>
                <a:uFillTx/>
                <a:latin typeface="Arial"/>
              </a:rPr>
              <a:t>relevant</a:t>
            </a: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 stakeholders” and affected par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POPs – persistent organic pollutants – also have international requir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ZA" sz="1600" spc="-1" strike="noStrike">
                <a:solidFill>
                  <a:srgbClr val="000000"/>
                </a:solidFill>
                <a:latin typeface="Arial"/>
              </a:rPr>
              <a:t>Chapter 7 – Offences &amp; Penal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Area sources –what is the onus on a state and lower governmental organ responsible for an area 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Odours – regulation – requires further technical specif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Circumstances beyond control – no provision made for this (no malice intended or negligenc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Chapters 6-9: du Toit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800" spc="-1" strike="noStrike">
                <a:solidFill>
                  <a:srgbClr val="000000"/>
                </a:solidFill>
                <a:latin typeface="Arial"/>
              </a:rPr>
              <a:t>Du Toi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ZA" sz="1600" spc="-1" strike="noStrike">
                <a:solidFill>
                  <a:srgbClr val="000000"/>
                </a:solidFill>
                <a:latin typeface="Arial"/>
              </a:rPr>
              <a:t>Chapter 7 – Offences &amp; Penal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Who is going to be imprisoned – board, director, control officers?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ZA" sz="1600" spc="-1" strike="noStrike">
                <a:solidFill>
                  <a:srgbClr val="000000"/>
                </a:solidFill>
                <a:latin typeface="Arial"/>
              </a:rPr>
              <a:t>Chapter 8 – General Mat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Appeal process not stipulated in the 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public consultation – is it consist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Appeal processes must be defined in 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MEC can make regulations – how will public participation be dealt with – should have specific public consul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How are all actions – except for international agreements and EMCAs to be regulated?  MEC regulations to be subject to pp and cabinet with cabinet memb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Labelling, noise, vibration, O3 depleting-  should be national responsibility only – should liaise with energy bill (energy labelling) – reconsider all MEC delegated powers esp labelling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Appropriate fine”  and “appropriate process” – vague terminolo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Chapters 6-9: du Toit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800" spc="-1" strike="noStrike">
                <a:solidFill>
                  <a:srgbClr val="000000"/>
                </a:solidFill>
                <a:latin typeface="Arial"/>
              </a:rPr>
              <a:t>Du Toi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ZA" sz="1600" spc="-1" strike="noStrike">
                <a:solidFill>
                  <a:srgbClr val="000000"/>
                </a:solidFill>
                <a:latin typeface="Arial"/>
              </a:rPr>
              <a:t>Chapter 8 – General – Consultation and Exemp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Basis for exemptions not describ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Public consultation not dealt with effectiv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ZA" sz="1600" spc="-1" strike="noStrike">
                <a:solidFill>
                  <a:srgbClr val="000000"/>
                </a:solidFill>
                <a:latin typeface="Arial"/>
              </a:rPr>
              <a:t>Chapter 9 – Transitional Arrang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Basis for review of license- needs to be specifically dealt wi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600" spc="-1" strike="noStrike">
                <a:solidFill>
                  <a:srgbClr val="000000"/>
                </a:solidFill>
                <a:latin typeface="Arial"/>
              </a:rPr>
              <a:t>Floo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43(3) in addition to what Minister must do – must also do these other thin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Confusion between penalties and imprisonment – scattered refere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Minister may or must – must be clarified under section 4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Repeal of APPA must go to a Schedule – problem posed – one article repeals APPA – another article refers to a section of AP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Memorandum of objectives needs to be add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Chapters 6-9: du Toit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000" spc="-1" strike="noStrike">
                <a:solidFill>
                  <a:srgbClr val="000000"/>
                </a:solidFill>
                <a:latin typeface="Arial"/>
              </a:rPr>
              <a:t>Flo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"/>
              </a:rPr>
              <a:t>Need to spell out that public participation is part of an exemption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"/>
              </a:rPr>
              <a:t>45(1) reference to imprisonment – who will do this – need to follow the judicial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"/>
              </a:rPr>
              <a:t>Vague on dust emissions (e.g. mine dumps) – what is happening to that – provision needs to be made in the Act for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"/>
              </a:rPr>
              <a:t>Absence of penalties for local author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Comments by speakers and the flo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"/>
              </a:rPr>
              <a:t>Kate Farin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Chapter 2: Contents of National Framework to be specified in more det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Chapter 3: Composition NAQM committee to be specified, either in the Act or by reference to NEAF in NE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Chapter 5: Licensing: EIA and assessment for purposes of this Act to be integrat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"/>
              </a:rPr>
              <a:t>The flo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Reference to steam should be remo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Results of, rather than technology required for emission control should be specifi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Transitional arrangements w r t provisional licenses and presently pending licenses should be specified more clear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Chapter 2: Prof Annega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"/>
              </a:rPr>
              <a:t>Positive aspects</a:t>
            </a: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Management of ambient AQ as dri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Protects health and the enviro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Mandatory public consul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Public access to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Differentiation between geographical are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"/>
              </a:rPr>
              <a:t>Recommendations (H Annegarn)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National framework </a:t>
            </a:r>
            <a:r>
              <a:rPr b="0" lang="en-ZA" sz="2000" spc="-1" strike="noStrike" u="sng">
                <a:solidFill>
                  <a:srgbClr val="000000"/>
                </a:solidFill>
                <a:uFillTx/>
                <a:latin typeface="Arial"/>
              </a:rPr>
              <a:t>must</a:t>
            </a: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 include norms and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Implementation strategy is not specifi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Reporting period should be specifi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Framework </a:t>
            </a:r>
            <a:r>
              <a:rPr b="0" lang="en-ZA" sz="2000" spc="-1" strike="noStrike" u="sng">
                <a:solidFill>
                  <a:srgbClr val="000000"/>
                </a:solidFill>
                <a:uFillTx/>
                <a:latin typeface="Arial"/>
              </a:rPr>
              <a:t>must</a:t>
            </a: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 identify substances of concern; for substances with no national standard, risk assessment approach to be specifi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Annegarn recommendation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800" spc="-1" strike="noStrike">
                <a:solidFill>
                  <a:srgbClr val="000000"/>
                </a:solidFill>
                <a:latin typeface="Arial"/>
              </a:rPr>
              <a:t>Provincial and local standards to be stricter than national standards – specific reasons must be motivated for requiring more stringent standards (e.g. ecosystem protection, PSD); this must take technical and economic feasibility into account and must have an appeal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800" spc="-1" strike="noStrike">
                <a:solidFill>
                  <a:srgbClr val="000000"/>
                </a:solidFill>
                <a:latin typeface="Arial"/>
              </a:rPr>
              <a:t>Measurement standards must be specified for public/statutory reporting and for compliance reporting by other parties; must also be applicable to provincial and municipal author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000" spc="-1" strike="noStrike">
                <a:solidFill>
                  <a:srgbClr val="000000"/>
                </a:solidFill>
                <a:latin typeface="Arial"/>
              </a:rPr>
              <a:t>The flo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800" spc="-1" strike="noStrike">
                <a:solidFill>
                  <a:srgbClr val="000000"/>
                </a:solidFill>
                <a:latin typeface="Arial"/>
              </a:rPr>
              <a:t>Regulations must be compatible with frame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ZA" sz="1800" spc="-1" strike="noStrike">
                <a:solidFill>
                  <a:srgbClr val="000000"/>
                </a:solidFill>
                <a:latin typeface="Arial"/>
              </a:rPr>
              <a:t>Organ of state” to be clarif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800" spc="-1" strike="noStrike">
                <a:solidFill>
                  <a:srgbClr val="000000"/>
                </a:solidFill>
                <a:latin typeface="Arial"/>
              </a:rPr>
              <a:t>What does “restoration” mean – should be remo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800" spc="-1" strike="noStrike">
                <a:solidFill>
                  <a:srgbClr val="000000"/>
                </a:solidFill>
                <a:latin typeface="Arial"/>
              </a:rPr>
              <a:t>Local authority is allowed to set stricter emission standards, not ambient standards (clarification by Annegar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800" spc="-1" strike="noStrike">
                <a:solidFill>
                  <a:srgbClr val="000000"/>
                </a:solidFill>
                <a:latin typeface="Arial"/>
              </a:rPr>
              <a:t>Concern about sampling/measurement standard pr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Chapter 3: Gideon Slabbe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800" spc="-1" strike="noStrike">
                <a:solidFill>
                  <a:srgbClr val="000000"/>
                </a:solidFill>
                <a:latin typeface="Arial"/>
              </a:rPr>
              <a:t>Slabbe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Act does not provide guidance on composition of NAQM committee; institution is discretionary; should be made mandatory; composition, powers, remuneration should be specified (can be by reference to NEMA?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Development and implementation/integration of AQM plan at local level is vague - no guidelines to assist in drawing up, review, revi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Technical competence of (local) AQ officers is not specif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800" spc="-1" strike="noStrike">
                <a:solidFill>
                  <a:srgbClr val="000000"/>
                </a:solidFill>
                <a:latin typeface="Arial"/>
              </a:rPr>
              <a:t>Fl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Separate municipal AQ offic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Capacity and training of AQ officers is a concer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Vehicle emissions to be included in AQ plans (art 15); “international obligations” does not belong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Provision for management in contiguous areas (air sheds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ources to be made available to offic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Chapter 4: Annega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000" spc="-1" strike="noStrike">
                <a:solidFill>
                  <a:srgbClr val="000000"/>
                </a:solidFill>
                <a:latin typeface="Arial"/>
              </a:rPr>
              <a:t>Annega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"/>
              </a:rPr>
              <a:t>17 (1) a and 17 (5) are conflicting; “any other situation” must be more clearly specif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"/>
              </a:rPr>
              <a:t>Local authorities can not designate priority areas; should be allowed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"/>
              </a:rPr>
              <a:t>EU wording (conglomeration/connurbation) as automatic? priority area should be used; air shed should become primary planning area (similar to watershe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"/>
              </a:rPr>
              <a:t>Responsibility for amending plans is ambigu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"/>
              </a:rPr>
              <a:t>Time limit for drawing up of plans, also sanctions, extension period should be specif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"/>
              </a:rPr>
              <a:t>Are AQMs limited to single pollutants or all? To be clarif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"/>
              </a:rPr>
              <a:t>Public and I&amp;AP consultation should be mandatory in priority area AQM plan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"/>
              </a:rPr>
              <a:t>Relationship between listed activities for this bill and NEMA list</a:t>
            </a:r>
            <a:r>
              <a:rPr b="1" lang="en-ZA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Chapter 4: Annegarn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800" spc="-1" strike="noStrike">
                <a:solidFill>
                  <a:srgbClr val="000000"/>
                </a:solidFill>
                <a:latin typeface="Arial"/>
              </a:rPr>
              <a:t>Annega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Emission standards to specify both amounts and concentrations? Who is responsible for monitoring? – should be and/or but volumetric flow to be stipulated with concent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Time frame must be set for drawing up and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Permits and pollution prevention plans: Requirements to be harmoni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Smaller concerns, other sectors to be allowed for in EMC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Noise, vibration, odour vaguely defined; cannot be enforced as presently worded (noise already controlled elsewhere; ECA</a:t>
            </a:r>
            <a:r>
              <a:rPr b="1" lang="en-ZA" sz="16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800" spc="-1" strike="noStrike">
                <a:solidFill>
                  <a:srgbClr val="000000"/>
                </a:solidFill>
                <a:latin typeface="Arial"/>
              </a:rPr>
              <a:t>Fl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The Bill cannot specify monetary issues; “funding arrangements” must be clarified; penalties on municipalities for non-complianc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Precautionary principle” to be defined (art 22b) - remo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Old “smoke control zones” not mentioned – to become local responsibility? Transition measures might be needed</a:t>
            </a:r>
            <a:r>
              <a:rPr b="1" lang="en-ZA" sz="16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ZA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Chapter 4: Annegarn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800" spc="-1" strike="noStrike">
                <a:solidFill>
                  <a:srgbClr val="000000"/>
                </a:solidFill>
                <a:latin typeface="Arial"/>
              </a:rPr>
              <a:t>NACA - PROPOS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The term ‘priority areas’ should be used to mean conurbations where airshed air quality management and planning (across municiple and possibly also provincial boundaries) is applicable – still give minister or MEC power to stipulate other priority are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It should be stipulated that in ‘priority areas’ municipalities must collaborate (through forming an AQM body/structure) in the development and implementation of a single AQM P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The formation of a multi-stakeholder committee to oversee the development and implementation of AQM plans in priority areas should be mandat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Implications – additional resources (financial and technical) would be made available from national for AQ management &amp; planning in those are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Municipalities which do not form part of the ‘priority area’ planning should be distinguished and their AQM planning responsibilities differentiat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Priority area AQM plan negates the need for individual AQM planning by the relevant municipal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Chapter 5: Odendaal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800" spc="-1" strike="noStrike">
                <a:solidFill>
                  <a:srgbClr val="000000"/>
                </a:solidFill>
                <a:latin typeface="Arial"/>
              </a:rPr>
              <a:t>Odenda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Assessment to be undertaken for licence application - duplication of EIA process requirements – neet integration of these assessment proced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Word “may” apply for a license – should be changed to must apply for a lic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Timeframe must be set for notification of current permit hold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Practical difficulties for various plants – to comply with current permit conditions – Bill should make provision for bringing such plants into line progressivel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Licenses issued for a site not for a single process – surely provision should be made for activit</a:t>
            </a:r>
            <a:r>
              <a:rPr b="0" lang="en-ZA" sz="1600" spc="-1" strike="noStrike" u="sng">
                <a:solidFill>
                  <a:srgbClr val="000000"/>
                </a:solidFill>
                <a:uFillTx/>
                <a:latin typeface="Arial"/>
              </a:rPr>
              <a:t>ies </a:t>
            </a: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being associated with a licen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License should be valid indefinitely as long as the process is in operation - but should be reviewed within a specified period (recommended – 5 years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Positive that it makes provision for routine and upset cond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Definitely looked at fugitive emissions previously but it was not directly regul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2T09:26:09Z</dcterms:created>
  <dc:creator>Default User</dc:creator>
  <dc:description/>
  <dc:language>en-US</dc:language>
  <cp:lastModifiedBy>Yvonne Scorgie</cp:lastModifiedBy>
  <dcterms:modified xsi:type="dcterms:W3CDTF">2000-06-21T18:10:15Z</dcterms:modified>
  <cp:revision>60</cp:revision>
  <dc:subject/>
  <dc:title>NACA workshop on the AQM bill</dc:title>
</cp:coreProperties>
</file>