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F747-9224-4EAA-AFD1-E2655AD944D8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F5B6-5C10-48D0-AFF5-1A6F09999695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Chapter 3: Institutional &amp; Planning Matters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86200"/>
            <a:ext cx="6400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deon Slabb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al Management Department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Johannesbu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ypical contents of IDP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year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planning processes with budget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2010 &amp; 2030 vision for 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Planning Unit’s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DP = RSDF, part of Environment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MP for Joburg is part of this ID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 of air quality management pl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QM Plans must seek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give effect to Chapter 3 of the NEMA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rove air quality across the countr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ddress the effects of emissions from fossil fuel use in residential applicat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lement obligations in respect of international agre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give effect to best practice in air quality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 of air quality management pla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ribe how department, province or municipality will give effect to its air quality management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ly with any other requirements as may be prescrib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spcBef>
                <a:spcPts val="29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orting on AQM plan implemen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nual report (to be submitted in terms of section 16(1)(b) of the NEMA must contain information on AQMP implementation including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initiatives undertake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level of compliance with national 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easures taken to secure complianc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onitoring activiti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positive that AQM planning is being integrated into existing environmental and spatial planning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of note &amp;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ttle guidance given on AQM plan development processes and actual content of AQM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reference to guidelines to be issued to assist AQM Plan development, implementation, review &amp; revi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vironmental Implementation and Management Plans are to be revised during 200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ufficient time to incorporate AQM plans or will this need to wait for the next revision (compulsory 4-yearly revisions)?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Questions &amp; Comments?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10900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2 - National Air Quality Management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3 - Appointment of air quality offic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s 14 to 16 - Air quality management pl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m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content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2 - National Air Quality Management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 13 - Appointment of air quality offic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tions 14 to 16 - Air quality management pla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 points of note and identify potential issues associated with both the Bill itself and with it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ay establish a NAQM Committee to advise on the implementation of the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to set ou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osition of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ditions of appointment of memb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nctions and functioning of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y other matter related to the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s of no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nister given much discretionary pow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guidance given on required composition of Committe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unlike approach adopted in the NEMA for National Environmental Advisory Forum (NEAF) establishment where the following is clearly stipulated: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the Forum comprise stakeholder representatives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nominations from organized labour, organized business, NGOs &amp; CBOs be invited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  <a:p>
            <a:pPr lvl="3" marL="1551960" indent="-221400">
              <a:spcBef>
                <a:spcPts val="1125"/>
              </a:spcBef>
              <a:buClr>
                <a:srgbClr val="00cc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that the Minister indicates the procedure to be adopted regarding nominations</a:t>
            </a:r>
            <a:endParaRPr b="0" lang="en-US" sz="1800" spc="-1" strike="noStrike">
              <a:solidFill>
                <a:srgbClr val="33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ir Quality Management Committee</a:t>
            </a:r>
            <a:endParaRPr b="1" lang="en-US" sz="32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tual existence of the  Committee left to Minister’s discre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t “may” or may not be established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not made explicit whether the Committee will be composed of governmental personnel, stakeholder representatives and/or of non-governmental technical exper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relationship of the Committee to the NEAF (currently does not exist) and the National Committee on Climate Change is uncertai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to design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ional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nagement matters in national gover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MECs to designat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ncial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tters in the provi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nicipalities to designate a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local) air quality offi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ponsible for co-ordinating air quality matters in municip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ust perform duties required in terms of the 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plan dev, air quality monitoring, issuing of licenses to listed activities, local standard setting, etc.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quality officer can delegate a duty or power to a person in the service of their administrations empl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quality officers must co-ordinate their activities in a manner as may be set out in the national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ppointment of air quality officer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of note and issues of concer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chnical competence of air quality officers not stipula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unlike in the case of persons responsible for listed activities and emission control officers - both of which are required to be technically competent - section 42(2) &amp; section 42 (d)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ation will necessitate considerable capacity building at local, provincial and national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echanisms for ensuring the co-ordination of local, provincial and national officer activities unclear from the national framework (section 6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r Quality Management Plan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be undertaken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national dept. or province responsible for preparing environmental implementation or environmental management plans - must include AQM Pl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municipality - include AQM Plan in its integrated development plan (ID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bookx" descr=""/>
          <p:cNvPicPr/>
          <p:nvPr/>
        </p:nvPicPr>
        <p:blipFill>
          <a:blip r:embed="rId1"/>
          <a:stretch/>
        </p:blipFill>
        <p:spPr>
          <a:xfrm>
            <a:off x="5562720" y="4267080"/>
            <a:ext cx="32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GJMC</cp:lastModifiedBy>
  <dcterms:modified xsi:type="dcterms:W3CDTF">2003-05-21T13:59:16Z</dcterms:modified>
  <cp:revision>448</cp:revision>
  <dc:subject/>
  <dc:title>PowerPoint Presentation</dc:title>
</cp:coreProperties>
</file>