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B6B2-2BF4-4BA0-8A21-1499528B8D01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9072-2BA1-4F50-A820-70C5E5AB9EFE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Workshop on the National Environmental Management: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 Air Quality Bill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267080"/>
            <a:ext cx="3429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487692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for Clean Air Northern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nacal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kshop Objective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the AQ Bill and a progress update on the associated standards set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assess the ability of the AQ Bill to provide the framework necessary for effective air qua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the implications of AQ Bill implementation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allocation with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sts to pollu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&amp; environmental benefit re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73040"/>
          <a:ext cx="836280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3040"/>
                    <a:ext cx="83628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47920"/>
          <a:ext cx="8305920" cy="856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05920" cy="85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19T19:50:55Z</dcterms:modified>
  <cp:revision>413</cp:revision>
  <dc:subject/>
  <dc:title>PowerPoint Presentation</dc:title>
</cp:coreProperties>
</file>