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1742-4964-4096-9D69-5C5964ED2C5E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198B-F328-40B8-A676-0849D21ADCED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91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05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36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91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05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96720" y="380520"/>
            <a:ext cx="8350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Chapter 2: Air Quality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Norms and Standards</a:t>
            </a:r>
            <a:endParaRPr b="1" lang="en-US" sz="4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886200"/>
            <a:ext cx="64008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old Annegarn &amp; Yvonne Scor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mospheric &amp; Energy Research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versity of the Witwatersrand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375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tent to which municipalities will be responsible for emissions monitoring should be clarifi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s has significant implications in terms of resource requirements during Act implemen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0492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onitoring &amp; info management standard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issue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ncial MECs m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y substances or mixtures of substances…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ablish provincial standard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1800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62720" indent="-212400">
              <a:spcBef>
                <a:spcPts val="1800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mission standards - for whole province or any geographical area within the province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marL="318960" indent="-31896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ncial standards may not alter national standards except to establish stricter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publishing a notice in terms of this section the MEC must follow the required consultativ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304920"/>
            <a:ext cx="8578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vincial standards for air quality &amp; emission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unicipality may - by way of a by-law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y substances or mixtures of substances…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ablish local emission standards for such substan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standards may not alter national or provincial standards except to establish stricter 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passing a by-law the municipality must follow the consultative process stipulated by the Municipal Systems 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28600"/>
            <a:ext cx="8578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Local standards for emission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aspec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rovision made for deriving &amp; implementing more stringent standards for specific geographical area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andatory public participation &amp; consultation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vinces &amp; municipalities must be required to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otivate for the implementation of more stringent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0"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ccff"/>
                </a:solidFill>
                <a:latin typeface="Arial"/>
              </a:rPr>
              <a:t>possible grounds: (i) protection of crops, natural vegetation and ecosystems, (ii) retaining capacity for future development, (iii) prevention of significant decline (etc.)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ssess the technical feasibility and economic implications of implementing stricter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68520" indent="-25704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vision should be made for an appeal proc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28600"/>
            <a:ext cx="8578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Provincial &amp; local standard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issues &amp; recommendation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er must by regulation prescribe the manner in whi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mbient air quality measurements must be carried 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ission measurements from point or non-point sources must be carried 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228600"/>
            <a:ext cx="8578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mbient air quality measurement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2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should be stipulated to who the prescribed methods for air quality and emission measurement will be applic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n-government sectors undertaking monitoring for compliance assessment purpose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the same methods be applicable to municipalities &amp; provin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2200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so, how does this relate to the national standards for monitoring by municipalities &amp; provinces made provision for in Section 8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28600"/>
            <a:ext cx="8578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mbient air quality measurement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issues &amp; recommendation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350200" cy="144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Questions &amp; Comments?</a:t>
            </a:r>
            <a:endParaRPr b="1" lang="en-US" sz="48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77" name="cartoon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65530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3502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im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brief overview of Chapter 2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1: National norms &amp; standar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6 - National Framework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7 - National standards for air quality &amp; emiss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8 - National monitoring &amp; info management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53760" indent="-251280" algn="just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2: Provincial &amp; local norms &amp; standar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lnSpc>
                <a:spcPct val="7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9 - Provincial standards for air quality &amp; emiss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05840" indent="-200880">
              <a:lnSpc>
                <a:spcPct val="7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10 - Local standards for emiss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53760" indent="-25128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 3: Gener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ection 11 - Ambient air quality measurement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marL="301680" indent="-301680" algn="just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 potential issues associated with Chapter 2 and its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National Framework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ster must establish a national framework within which national norms &amp; standard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e set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mbient air quality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missions from point or non-point source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monitoring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management planning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ir quality information management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marL="308520" indent="-308520" algn="just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s &amp; standards must aim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 algn="just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facilitate public participation &amp; public access to information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revent air pollution - including source control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romote efficient air quality monitoring &amp; management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nsure regular air quality reporting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spcBef>
                <a:spcPts val="6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nsure compliance with international agreement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tional framewor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binds all organs of state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ay assign responsibilities to different sphere of government and different organs of state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ay differential between different geographical area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ay be amended from time to time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Before publishing the national framework, or any substantive amendment a consultative process must be followed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National Framework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aspects - provision made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ir quality standards, emission standards &amp; monitoring protoco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tection of both health and the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ndatory public consultation &amp; particip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ublic access to air quality inform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fferentiating between geographical areas in terms of setting air quality &amp; emission standar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National Framework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points of note &amp; issues….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s &amp; recommend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national framework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mus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- rather than “may” - establish the norms &amp; standards referred 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 effective implementation strategy is critical to ensur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30000"/>
              </a:lnSpc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timely establishment of the norms &amp;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51560" indent="-210240">
              <a:lnSpc>
                <a:spcPct val="30000"/>
              </a:lnSpc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capacity building required to meet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83280" indent="-2628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should be made clear whether public access to source and emissions information is also ensured (or is the access limited to air quality informat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gular reporting on air quality’ - should be more specif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National Framework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points of note &amp; issues….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framework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dentify substances or mixtures of substances which - through ambient concentrations, bioaccumulation, deposition or in any other way - present a threat to health or the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these substances or mixtures establish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stablish air quality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43000" indent="-228600"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mission standards for point or non-point source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tional AQ &amp; Emission Standard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 should be made for the development of a risk assessment protocol for application for substances for which no air quality standards are to be 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the above be included the “may” in section 7 can be changed to mu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302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.e. the national framework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mus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dentify substances….and in respect of those substan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60000"/>
              </a:lnSpc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stablish air quality standards and/or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08440" indent="-221400">
              <a:lnSpc>
                <a:spcPct val="60000"/>
              </a:lnSpc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recommend risk assessment protocol application and/or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108440" indent="-221400">
              <a:lnSpc>
                <a:spcPct val="60000"/>
              </a:lnSpc>
              <a:spcBef>
                <a:spcPts val="247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establish emission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2860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ational AQ &amp; Emission Standard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recommendation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framework may establish national standards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nitoring by municipalities of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mbient air quality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oint and non-point source emiss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68520" indent="-25704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nitoring by provinces of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ambient air quality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erformance of municipalities in implementing the Act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1" marL="668520" indent="-257040" algn="just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ata collection and management to asses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compliance with the Act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compliance with ambient air quality &amp; emission standard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performance of organs of state in developing AQM pla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impact of, and compliance with, AQM Pla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  <a:p>
            <a:pPr lvl="2" marL="1028520" indent="-205560" algn="just">
              <a:lnSpc>
                <a:spcPct val="80000"/>
              </a:lnSpc>
              <a:spcBef>
                <a:spcPts val="1125"/>
              </a:spcBef>
              <a:buClr>
                <a:srgbClr val="00cc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compliance with international agreement obligations</a:t>
            </a:r>
            <a:endParaRPr b="1" lang="en-US" sz="1800" spc="-1" strike="noStrike">
              <a:solidFill>
                <a:srgbClr val="00cc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04920"/>
            <a:ext cx="8350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Monitoring &amp; info management standards </a:t>
            </a:r>
            <a:br>
              <a:rPr sz="3600"/>
            </a:b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what the bill says…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13:30:54Z</dcterms:created>
  <dc:creator>Yvonne Scorgie</dc:creator>
  <dc:description/>
  <dc:language>en-US</dc:language>
  <cp:lastModifiedBy>Yvonne Scorgie</cp:lastModifiedBy>
  <dcterms:modified xsi:type="dcterms:W3CDTF">2003-05-22T04:12:58Z</dcterms:modified>
  <cp:revision>481</cp:revision>
  <dc:subject/>
  <dc:title>PowerPoint Presentation</dc:title>
</cp:coreProperties>
</file>