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9F55-6A66-4E05-8857-D546707294A3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537-8931-430C-84A2-6A7A0A65D057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2: Air Quality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Norms and Standard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old Annegarn &amp; Yvonne Sco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mospheric &amp; Energy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the Witwatersrand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t to which municipalities will be responsible for emissions monitoring should be clarifi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has significant implications in terms of resource requirements during Act implemen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provincial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- for whole province or any geographical area within the provi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standards may not alter nation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ublishing a notice in terms of this section the MEC must follow the required consultat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standards for air quality &amp;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nicipality may - by way of a by-la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local emission standards for such substan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standards may not alter national or provinci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assing a by-law the municipality must follow the consultative process stipulated by the Municipal Systems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ocal standards for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vision made for deriving &amp; implementing more stringent standards for specific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ndatory public participation &amp; consult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nces &amp; municipalities must be required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otivate for the implementation of more string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0"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possible grounds: (i) protection of crops, natural vegetation and ecosystems, (ii) retaining capacity for future development, (iii) prevention of significant decline (etc.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ssess the technical feasibility and economic implications of implementing stricter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sion should be made for an appeal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&amp; local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by regulation prescribe the manner in whi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bient air quality measurement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ission measurements from point or non-point source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stipulated to who the prescribed methods for air quality and emission measurement will be applic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government sectors undertaking monitoring for compliance assessment purpos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same methods be applicable to municipalities &amp; provin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o, how does this relate to the national standards for monitoring by municipalities &amp; provinces made provision for in Section 8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502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77" name="cartoon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hapter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: Nation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6 - National Framework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7 - Nation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8 - National monitoring &amp; info managem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: Provincial &amp; loc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9 - Provinci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0 - Local standards for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: Gene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1 - Ambient air quality measur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1680" indent="-30168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tential issues associated with Chapter 2 and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establish a national framework within which national norms &amp; standa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set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s from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n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information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s &amp; standards must aim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facilitate public participation &amp; public access to inform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event air pollution - including source control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mote efficient air quality monitoring &amp;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regular air quality report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compliance with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frame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inds all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assign responsibilities to different sphere of government and different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differential between different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be amended from time to tim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efore publishing the national framework, or any substantive amendment a consultative process must be follow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 - provision made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 quality standards, emission standards &amp; monitoring protoc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of both health and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datory public consultation &amp; particip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access to air quality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iating between geographical areas in terms of setting air quality &amp; emission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&amp; 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rather than “may” - establish the norms &amp; standards referred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effective implementation strategy is critical to ensu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imely establishment of the norms &amp;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apacity building required to mee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made clear whether public access to source and emissions information is also ensured (or is the access limited to air quality inform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reporting on air quality’ - should be more speci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 which - through ambient concentrations, bioaccumulation, deposition or in any other way - present a threat to health or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these substances or mixtures establish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for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should be made for the development of a risk assessment protocol for application for substances for which no air quality standards are to be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the above be included the “may” in section 7 can be changed to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.e. 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dentify substances….and in respect of those substan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mmend risk assessment protocol application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may establish national standard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municipaliti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oint and non-point source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provinc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municipalities in implementing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collection and management to asses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ambient air quality &amp;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organs of state in developing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act of, and compliance with,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international agreement oblig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22T04:12:58Z</dcterms:modified>
  <cp:revision>481</cp:revision>
  <dc:subject/>
  <dc:title>PowerPoint Presentation</dc:title>
</cp:coreProperties>
</file>