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23C-3EDF-4FFE-BD09-F6058F65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F3F-C027-4D7B-8D68-AB952E7C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033-5E93-4B7D-9153-5AE837DC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2283-9BF5-4196-9F45-3C64289F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949-FAF2-439F-BA3D-029B6C08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D28-885E-47DF-81BC-479705A9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735-76D4-4206-B248-0E98FE5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CA5-4486-4472-9D2D-F44B651E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737-7763-4CB7-BBFA-38B7E88E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D9F-0E38-4087-9F76-1273B8BA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9052-DABC-4CB3-8ABA-36506854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C0A2-1E4A-4955-9E1F-2F3EC0F9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2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3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59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953F-113B-4CFB-ADBF-B338729925F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n overview of the </a:t>
            </a:r>
            <a:br>
              <a:rPr sz="3600"/>
            </a:b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ir Quality Bill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073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ate Fa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s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200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rovincial ambient quality and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7799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in a province may be identified by the ME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ncial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be 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 may only make provincial standards stricter than nat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C may differentiate between different geographical areas within the provin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ultative process must be follow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Local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80168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in a municipality may be identified by that municipa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cal standards for emissions from point or non-point sources may be establish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unicipality may only make local standards stricter than national or provincial standard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sultative process must be follow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Ambient air quality measurement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nister obliged to make regulations regarding the measurement of: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3 – Institutional and planning matter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80596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National Air Quality Management Committe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isory committee to Ministe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tional air quality offic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ncial 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l air quality office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-ordinate air quality management within jurisdic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quired to co-ordinate activities within national framew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ir quality management pl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integrated in EIP/ EMP (NEM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included in municipal integrated development pla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4 – Air quality management measure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9880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ority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lar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agement - preparation of AQM’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s for implementing and enforcing priority area AQM’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d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ing of activities – national and provincial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s in atmospheric emissions with significant detrimental effect on environ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mospheric emission license requi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4 – 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964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led emitt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laration of appliance/ activity – national and provinci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consultative process require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ssion standard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ment of emissi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lution prevention plans - in respect of priority pollutant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vironmental management co-operation agreement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cognition programm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rol of noise and vibra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84880" indent="-34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prohibition against offensive odour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5 – Licensing of listed activi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844280"/>
            <a:ext cx="78440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censing autho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ropolitan and district municipal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mospheric emission licenses: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tier - provisional and fi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tion procedu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cessing fe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essment on effect on air qualit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notification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actors to be considered (effect, prevention/ mitigation measures, fit and proper person, IAP submiss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5 – </a:t>
            </a: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9640" y="1773360"/>
            <a:ext cx="75121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ent (duration, point and non-point source emission concentration, point source and ambient measurements and reporting, GHG measurements, control technology, odour and vibration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nsf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riation, review and renew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ission control officer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designated by holder of atmospheric emission licens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iteria for fit and proper pers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6 – International air quality managemen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5121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lates to trans-boundary air pollu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er may regulate to prevent, control or correct releases that have an effect outside of S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7 – Offences and penaltie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5121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It is an offence 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nstruct infrastructure for, or to conduct a listed activity without a licens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ause the emission of any offensive odou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ntravene a condition of an atmospheric emission licens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Supply fake or misleading info in an application or to an air quality office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xceed pollutant concentrations specified for a controlled emitter or listed activ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Penalties can take into accoun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Severity of offence in terms of impac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Monetary and other benefits accrued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xtent of contribution to pollution loa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Purpos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mework for setting norms and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itutional frameworks, roles and responsibiliti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anagement plann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onitoring and information manage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quality management measur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iance and enforc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8 – General matter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5640" y="2060640"/>
            <a:ext cx="72010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ul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international obliga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MCA’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emissions from point and non-point sour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noise and vibratio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open fires or incinerator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ozone depleting substan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codes of practic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records and return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labellin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8 – </a:t>
            </a: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cont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28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trading schem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appeal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ffffff"/>
                </a:solidFill>
                <a:latin typeface="Tahoma"/>
              </a:rPr>
              <a:t>incentiv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ation pro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ltation – as appropriate in the circumstances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participation – 21 days com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emp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1074600" indent="-5331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 be supported by reaso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9 – Miscellaneou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1890720"/>
            <a:ext cx="75121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A to be repea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ff"/>
                </a:solidFill>
                <a:latin typeface="Tahoma"/>
              </a:rPr>
              <a:t>Retrospective applic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ansitional arrangem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isting registration certificate – deemed to be provisional atmospheric emission license for 2 year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application for final license must be done within 1 year – or provisional becomes null &amp; void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ed activities - deemed to be APPA schedule 2 in meantim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-331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standards - deemed to be APPA ambient air quality guidelines in mean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402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bjectives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8436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, restore and enhance air quality in South Afric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able public involvement and participation in the protection of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 access to information abou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risk to healt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the regulatory framework for air quality managemen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rove the efficiency of administration of air quality legislatio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effect to international obligations e.g. Kyo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ntex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AQM Bill must be read wit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M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te Paper on Integrated Pollution and Waste Managem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1 - Interpretation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inology includes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ir pollu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fly ash, steam and odour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missions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both point and non-point sourc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-352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-point source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includes mining activities and stockpi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31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hapter 2 – Air quality norms and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98804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framework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nd emission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and information management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n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nd emission standard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standards for emiss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3880" indent="-352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 measurem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framewor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848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nister required to establish national framework with norms and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int and non-point emission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tion manage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ll bind all organs of state and may be delegated responsibilities for implemen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y differentiate between different geographical a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ust follow a consultative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1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ambient and emission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988640"/>
            <a:ext cx="801684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stances or mixtures which present a threat to health or environment may be identi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tional standards fo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bient air quality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issions from point or non-point sour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y be establish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National monitoring and information management standard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512120" cy="38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tional standards for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nitoring by municipalities and provinc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lection and management of d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06:11:36Z</dcterms:created>
  <dc:creator>Default User</dc:creator>
  <dc:description/>
  <dc:language>en-US</dc:language>
  <cp:lastModifiedBy>Default User</cp:lastModifiedBy>
  <dcterms:modified xsi:type="dcterms:W3CDTF">2003-05-21T13:34:28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astOperation">
    <vt:lpwstr>SavedAs</vt:lpwstr>
  </property>
</Properties>
</file>