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ADBF-065E-4B05-A023-AADA6A77E5EB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D49C-3F30-42D0-87DD-7949B47A2444}" type="slidenum"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91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0520" y="13712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736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91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0520" y="3839040"/>
            <a:ext cx="26107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96720" y="380520"/>
            <a:ext cx="8350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2840" y="38390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736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371240"/>
            <a:ext cx="395712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360" y="3839040"/>
            <a:ext cx="8109000" cy="22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7360" y="137124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cc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Workshop on the National Environmental Management:</a:t>
            </a:r>
            <a:br>
              <a:rPr sz="4800"/>
            </a:br>
            <a:r>
              <a:rPr b="0" lang="en-GB" sz="4800" spc="-1" strike="noStrike">
                <a:solidFill>
                  <a:srgbClr val="ffff00"/>
                </a:solidFill>
                <a:latin typeface="Arial"/>
              </a:rPr>
              <a:t> Air Quality Bill</a:t>
            </a:r>
            <a:endParaRPr b="1" lang="en-US" sz="4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4267080"/>
            <a:ext cx="342900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4876920"/>
            <a:ext cx="563904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for Clean Air Northern Bra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nacal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770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Workshop Objectives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09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brief overview of the AQ Bill and a progress update on the associated standards setting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ly assess the ability of the AQ Bill to provide the framework necessary for effective air qual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3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the implications of AQ Bill implementation in terms of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ource allocation with gover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sts to pollu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375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 &amp; environmental benefit realis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373040"/>
          <a:ext cx="836280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3040"/>
                    <a:ext cx="83628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720" y="380520"/>
            <a:ext cx="83505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Programme</a:t>
            </a:r>
            <a:endParaRPr b="1" lang="en-US" sz="3600" spc="-1" strike="noStrike">
              <a:solidFill>
                <a:srgbClr val="ff3300"/>
              </a:solidFill>
              <a:latin typeface="Comic Sans MS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447920"/>
          <a:ext cx="8305920" cy="856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305920" cy="85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3:30:54Z</dcterms:created>
  <dc:creator>Yvonne Scorgie</dc:creator>
  <dc:description/>
  <dc:language>en-US</dc:language>
  <cp:lastModifiedBy>Yvonne Scorgie</cp:lastModifiedBy>
  <dcterms:modified xsi:type="dcterms:W3CDTF">2003-05-19T19:50:55Z</dcterms:modified>
  <cp:revision>413</cp:revision>
  <dc:subject/>
  <dc:title>PowerPoint Presentation</dc:title>
</cp:coreProperties>
</file>