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8392-E868-4487-8142-F82E8EE6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F1F6-CE17-4068-8149-67760C59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9150-F948-49A6-825C-209E98149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D30F-5B86-4374-98B6-9E3788E9D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99C2-808E-411A-A4C3-861B32DF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78BA-BA00-410B-8AEC-132AB094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7D10-317E-4CC8-B618-26DF1C7F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BA14-9836-4C23-B862-63CF47D0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0881-651E-4720-8D1E-2519CEE8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575E-A91C-45C1-990A-5FF150D7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52F3-08D8-4369-983F-0E16D46A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4988-593E-49D0-A931-36C161C0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7B37-BFE2-4354-AF8D-863664A72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Times New Roman"/>
              </a:rPr>
              <a:t>Atmospheric pressure vs he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36400" y="790560"/>
            <a:ext cx="7961040" cy="5856120"/>
            <a:chOff x="536400" y="790560"/>
            <a:chExt cx="7961040" cy="5856120"/>
          </a:xfrm>
        </p:grpSpPr>
        <p:grpSp>
          <p:nvGrpSpPr>
            <p:cNvPr id="43" name=""/>
            <p:cNvGrpSpPr/>
            <p:nvPr/>
          </p:nvGrpSpPr>
          <p:grpSpPr>
            <a:xfrm>
              <a:off x="536400" y="790560"/>
              <a:ext cx="7961040" cy="5856120"/>
              <a:chOff x="536400" y="790560"/>
              <a:chExt cx="7961040" cy="5856120"/>
            </a:xfrm>
          </p:grpSpPr>
          <p:graphicFrame>
            <p:nvGraphicFramePr>
              <p:cNvPr id="44" name=""/>
              <p:cNvGraphicFramePr/>
              <p:nvPr/>
            </p:nvGraphicFramePr>
            <p:xfrm>
              <a:off x="536400" y="790560"/>
              <a:ext cx="7961040" cy="585612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36400" y="790560"/>
                        <a:ext cx="7961040" cy="5856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6" name=""/>
              <p:cNvSpPr/>
              <p:nvPr/>
            </p:nvSpPr>
            <p:spPr>
              <a:xfrm flipV="1">
                <a:off x="5374800" y="4011480"/>
                <a:ext cx="0" cy="1665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>
                <a:off x="1868040" y="4011480"/>
                <a:ext cx="34927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3290760" y="4844880"/>
              <a:ext cx="1650960" cy="490680"/>
            </a:xfrm>
            <a:prstGeom prst="wedgeRectCallout">
              <a:avLst>
                <a:gd name="adj1" fmla="val 75671"/>
                <a:gd name="adj2" fmla="val 116342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ZA" sz="1800" spc="-1" strike="noStrike">
                  <a:solidFill>
                    <a:srgbClr val="000000"/>
                  </a:solidFill>
                  <a:latin typeface="Times New Roman"/>
                </a:rPr>
                <a:t>Height of Kilmanja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16:33:39Z</dcterms:created>
  <dc:creator>EDDavLuc</dc:creator>
  <dc:description/>
  <dc:language>en-US</dc:language>
  <cp:lastModifiedBy>EDDavLuc</cp:lastModifiedBy>
  <dcterms:modified xsi:type="dcterms:W3CDTF">2004-05-10T16:34:00Z</dcterms:modified>
  <cp:revision>1</cp:revision>
  <dc:subject/>
  <dc:title>Atmospheric pressure vs height</dc:title>
</cp:coreProperties>
</file>