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7AA-1564-4E67-AC0F-BF2A708F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F45B-1BF8-47A5-987A-54739835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09B-52D1-4B4B-B72C-309F3B48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3B7-50C2-4B7A-A835-B3447DED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8A60-41B6-4F81-8C7B-D8A85AC5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6A46-C481-4A51-BBDA-DA866AC5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49F0-C858-4346-982F-A1312EC5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5B5B-EE2C-46D5-A3E9-86A168D1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D62D-E438-4992-A90E-8BFE4E47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16DE-361E-40C3-8E2D-C57A5F26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5D9B-7D4D-4670-BA6E-44A7CD5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5C8-C50B-48D0-A06F-A0CD9D83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750D1-449C-4CF9-85F1-E92E09C0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376C-5A0F-47AE-8480-E3FF75F2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D9E1-16B9-42D6-AE08-05FA03D2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2B05-0FC3-41B8-9BBA-2FE1A92B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1BC5-FB40-4BF9-8B57-FAFFB595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ED6-704F-4F02-9ADD-B2C36BF0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6FA-6185-47D7-9C4F-FD150FF2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8DC1-32CC-4ED1-BBCF-1222E937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FBC-2009-4355-A9C3-B5C0C215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B860-B1CC-452D-AAD6-FE90AC81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A06-4A27-4226-9E48-EBF072D7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1F9-596E-4ED5-AC9E-F439C6F2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16A2-9C4F-4577-85EC-FDFDB192C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CA5A-1FC9-413F-B92D-BB66464F7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AIR QUALITY BILL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CHAPTERS 6 - 9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ERNATIONAL AIR QUALITY MANA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FFENCES AND PENA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ENERAL MAT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T 1: REGULA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T 2 CONSULTATION PROCE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T 3 EXEMP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ISCELLANEO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CHAPTER 9: MISCELLANEOU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peal of legisl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ransitional arrangements iro RC’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xisting RC’s deemed PRC’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Notice within 90 day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olders to apply within  1 year otherwise PRC becomes voi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eview of license possibl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?? Basis for review ?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PIETER DU TOI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h 6 - INTERNATIONAL AIR QUALITY MANAGEMENT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ans boundary air pollu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43(1)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wer to investigate:  “….may reasonably be anticipated to contribute to…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B air pollu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P that (likely) violates, an international agreement iro prevention, control or correction of an emiss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43(2) “…significant detrimental effect in another country on air quality, health or environment…”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REGULATIONS!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43(3)  Consultation - Foreign Affair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and ME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CONSIDER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Regional Initiatives. (ICAG, DEBITS, SAFARI, APINA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SADEC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FCCC &amp; KYOTO ??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43 (1)  Investigation based on scientific principles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43 (3)  Consultation also with Ministers of Trade &amp; Industries, Finance, Mineral &amp; Energy or others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43(3) Adding of “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relevant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stakeholders” and affected partie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OPS etc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HAPTER 7 - OFFENCES AND PENALTI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Offen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4(1) : License conditions, 21/28, false/misleading infor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4(2) &amp; 44(3): Exceeding emission limi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?? Area sources and onus on state and lower governmental organs. Odours, circumstances beyond control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Offens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It is an offence t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Construct infrastructure for, or to conduct a listed activity without a license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Cause the emission of any offensive odour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Contravene a condition of an atmospheric emission license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Supply fake or misleading info in an application or to an air quality officer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Exceed pollutant concentrations specified for a controlled emitter or listed activity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Penaltie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mprisonment (&lt;10 years) and/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ne in relation to certain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00"/>
                </a:solidFill>
                <a:latin typeface="Arial"/>
              </a:rPr>
              <a:t>Penalties can take into account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Arial"/>
              </a:rPr>
              <a:t>Severity of offence in terms of impact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Arial"/>
              </a:rPr>
              <a:t>Monetary and other benefits accrued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Arial"/>
              </a:rPr>
              <a:t>Extent of contribution to pollution load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??  MD, turnover or profit 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HAPTER 8  - GENERAL MATT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rt 46: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REGULATIONS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BY MINIS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nsistent or not with A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4 Aspects mention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ppeal process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not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ipulat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?? (I) International agreements, public consultation,  appeal process in Act, incentives, appeal process EMCA’s, any other matter 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GENERAL MAT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rt 47: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Regulations by ME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tto for sub sections c to n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??concerns as above except for international issues and EMCA’s ?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Regulations Gener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Penalties: Imprisonment &lt; 5 year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And/or “appropriate fine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Consultative process, “as appropriate” neede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GENERAL - CONSULTATION &amp; EXEMP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inister to consult cabinet members &amp; MEC and publ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C to consult with executive council, Minister and publ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rt 50 describes the proc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PPLICATION FOR EXEMTIONS POSSIBLE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?? Basis, consultation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8:29:58Z</dcterms:created>
  <dc:creator>Pieter Du Toit</dc:creator>
  <dc:description/>
  <dc:language>en-US</dc:language>
  <cp:lastModifiedBy>Pieter Du Toit</cp:lastModifiedBy>
  <cp:lastPrinted>2003-05-21T20:07:44Z</cp:lastPrinted>
  <dcterms:modified xsi:type="dcterms:W3CDTF">2003-05-22T09:50:39Z</dcterms:modified>
  <cp:revision>9</cp:revision>
  <dc:subject/>
  <dc:title>AIR QUALITY BILL</dc:title>
</cp:coreProperties>
</file>