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57F-551C-410C-AF98-1920BBDE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E32-5DD9-4271-9884-935CF582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C72-8D49-4D8B-867B-64283668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D9B-F566-4803-9500-5D67CB87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39B-BC38-42C9-BAFF-5718E93B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E4C-31ED-4B99-9A2B-3AD2AFD9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8D5-48BE-4C1D-B627-85409B44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B3E-C61B-4931-B3AA-70563BF8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2E0-EDAE-40B2-8AA5-831F78B1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F46-7DB4-4ED1-80A3-8B44812F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803-3119-4684-A10E-83352642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EE4-BB61-47A9-9EF6-BAD0960F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E6EB-3023-4E04-9D2C-4322C7CBC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3838320" cy="204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4080" y="419112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4191120"/>
            <a:ext cx="38862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WA = 0.5*210 + 0.1*30+1.2*60+0.7*4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10+30+60+ 4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= 211.5/34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= 0.61 f/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7:33:01Z</dcterms:created>
  <dc:creator>Jonny Myers</dc:creator>
  <dc:description/>
  <dc:language>en-US</dc:language>
  <cp:lastModifiedBy>Jonny Myers</cp:lastModifiedBy>
  <dcterms:modified xsi:type="dcterms:W3CDTF">2003-04-27T15:31:34Z</dcterms:modified>
  <cp:revision>2</cp:revision>
  <dc:subject/>
  <dc:title>Slide 1</dc:title>
</cp:coreProperties>
</file>