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D09-D393-465D-BE1E-40FA6DA3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C123-5AC9-47CB-B1DE-3E8E532E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789-516E-4AC7-A034-DA7FE83F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3C3-5E30-4370-B4A9-FFEEF85C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40D-FBD8-4E0E-B293-3819F7F0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FF4-AD90-45FF-B201-C0BD16F9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198B-9043-4BE6-B968-4E0E6228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096-28BC-4FEF-B5DF-189F7EE8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3E54-0E8E-4439-A862-CF2D526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D7B-FA49-4FDA-B954-06D19553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B26E-5378-43F9-9AAF-6E67245A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42C-B341-4494-B294-2C857BB9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E5A4-08EA-4D6F-B5D2-E83D4585B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3838320" cy="204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24080" y="4191120"/>
            <a:ext cx="762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4191120"/>
            <a:ext cx="38862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WA = 0.5*210 + 0.1*30+1.2*60+0.7*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10+30+60+ 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= 211.5/34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= 0.61 f/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5T07:33:01Z</dcterms:created>
  <dc:creator>Jonny Myers</dc:creator>
  <dc:description/>
  <dc:language>en-US</dc:language>
  <cp:lastModifiedBy>Jonny Myers</cp:lastModifiedBy>
  <dcterms:modified xsi:type="dcterms:W3CDTF">2003-04-27T15:31:34Z</dcterms:modified>
  <cp:revision>2</cp:revision>
  <dc:subject/>
  <dc:title>Slide 1</dc:title>
</cp:coreProperties>
</file>