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54A-1DD4-482F-8867-E3D2797A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B04-1D94-4697-8F11-EDEE3F74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A5E-739E-4909-B199-C9BC758E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EBE-3953-4500-BEF9-D0A796B4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BBC-513B-457D-BA3E-7AEB57FB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C03-29EB-463E-A946-4621F5FC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260-4F59-42FD-87B2-85EA4A8F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653-B3ED-431B-B5DA-ABA77589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5FD-27E1-4C6E-BFC5-5AB98E0C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F5E-BCE2-4AD1-B2C5-B2030E8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F1D-18A3-4710-99F3-2B826C9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556-C9C2-4CBD-A754-B7A2F14F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86A-66D0-47E8-9335-936FCDE60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ation in self-directed distance education using the new Information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 Neil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Clinic, UCT and Groote Schuur Hos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CT Lung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5029200"/>
            <a:ext cx="119988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5105520"/>
            <a:ext cx="22860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practitioners learn about ROL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art of the undergraduate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s?  NIOSH examp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reader cour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icul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DS curriculum was developed as an iterative process amongst the Faculty members early on in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iculum outlines the knowledge base for R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rough understanding provides an approach to challenges in the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esting this understanding may give no indication of proficiency in ROL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aining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posiu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 lectures, 501 slides, 7 hrs audio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ul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ing exercise (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 10 - 15% ab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exercise (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50% ab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s documenting use can be returned to UCT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TH 8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and evaluation of guidelines and materials for the technology transfer of x-ray reading skills to clinicians in the mining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296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IMRAC" descr=""/>
          <p:cNvPicPr/>
          <p:nvPr/>
        </p:nvPicPr>
        <p:blipFill>
          <a:blip r:embed="rId1"/>
          <a:stretch/>
        </p:blipFill>
        <p:spPr>
          <a:xfrm>
            <a:off x="7499520" y="4952880"/>
            <a:ext cx="1339560" cy="16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5029200"/>
            <a:ext cx="119988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76520" y="5029200"/>
            <a:ext cx="22860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of the ses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background and introduce participants to the use of the ROLDS CD R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4267080"/>
            <a:ext cx="2361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ll Mu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Glyn Th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ert Solo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hanya Mash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62360" y="4571640"/>
            <a:ext cx="2895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y 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 Benning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hen Bredenk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hammed Ja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he participant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816120"/>
            <a:ext cx="5502240" cy="3616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24080" y="4648320"/>
            <a:ext cx="205740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el Goo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diwe Nde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mien Le Ro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in Churchy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jen Naid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agnosis of Pneumoconi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istory and nature of expos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uration, quantity and time l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neumoconiotic x-ray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gression of the x-ray pattern over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hronic nature of the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clusion of other diseases with a similar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40160" y="189000"/>
            <a:ext cx="5703840" cy="666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4572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.O.L.D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447920"/>
            <a:ext cx="3733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Rad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Occup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OL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ogical Occupational Lung Disease Surveillance (ROLDS) is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programme of repeated healt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ing. ROLDS refers to any programme for medical surveillance carried out in South Africa as a result of risk assessment or because it is required in terms of the Mine Health and Safety Act (or the Occupational Health and Safety Act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purpose of a programme of ROLD Surveillance 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etect and appropriately refer occupational lung disease at the earliest  possible st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establish a base line against which subsequent changes in health status of employees can be evalua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dentify other medical conditions incidentally detected that require further referral for appropriate evaluation and treatment of conditions identifi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provide information concerning the prevalence or incidence of abnormalities that will enable the employer to eliminate, control and minimise the health risk for which the programme is being condu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ROLDS importan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oniosis, tuberculosis and other lung diseases pose a major challenge in SA.  ROLDS is part of an overall strategy to identify and control these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logy is the current standard for Pn diagnosis, but is an imperfect screening instrument for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 of ROLDS by employers is a legal requirement in certain indus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logy and consequent medical therapies are significant costs to indust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5:39:28Z</dcterms:created>
  <dc:creator>N. White</dc:creator>
  <dc:description/>
  <dc:language>en-US</dc:language>
  <cp:lastModifiedBy>White</cp:lastModifiedBy>
  <dcterms:modified xsi:type="dcterms:W3CDTF">2003-12-09T19:54:54Z</dcterms:modified>
  <cp:revision>19</cp:revision>
  <dc:subject/>
  <dc:title>HEALTH 803</dc:title>
</cp:coreProperties>
</file>