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A15-718C-463B-A189-60583863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382-5EE9-4AA8-9AE1-159AEDA4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E37-3E65-4476-9937-883BDA43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ADB-970E-4A7D-9CF3-0A027554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5B8-C773-43C6-92B5-4A8BF78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92B-CA35-4035-BD35-7593FFD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B35-12F0-4ED9-925B-FDC2312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BA0-0403-41A9-AF92-F24C7FCE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CE2-8702-48CD-908E-8274339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983-5177-428C-B8BC-83B5A439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1BA-DAEC-47AA-947E-46E49CA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780-B050-4AB2-90C6-44FDD24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C87-A36A-4459-B155-84FBF50277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racticum%201%20ILO%20Classification%20Booklet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introduction to the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ILO Radiological Classific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Pneumoconi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Neil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1295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819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7880" y="304920"/>
            <a:ext cx="4554360" cy="624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952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Guidelines for use of ILO Classification, Revised Edition, 19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pro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oin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2, 3 = abnormal (increasing number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opac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oint scale extended to a 12 point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/-  0/0  0/1 =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0  1/1  1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1  2/2 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2  3/3  3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5320" y="609480"/>
            <a:ext cx="3962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pro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6680" y="228600"/>
            <a:ext cx="415116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81480" y="51055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Guidelines for use of ILO Classification, Revised Edition, 19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609480"/>
            <a:ext cx="7632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114800" y="609480"/>
            <a:ext cx="7632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– pro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ly integrate the small opacities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inction between 0/1 and 1/0 crucial – 0/1 is normal, 1/0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ut the closest standard film.  If the film corresponds closely to a standard film, then use that full category e.g. 2/2.  If less profuse use 2/1, if more profuse use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– pro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eumoconiosis is usually, but not always symmet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significant regional difference in profusion apply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zone is 3 or more sub-categories less profuse than the most profuse zone then do not include that zone in the decision on recording profu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8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 fields divided into six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zones ma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81280" y="1668600"/>
            <a:ext cx="5181840" cy="374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5627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Guidelines for use of ILO Classification, Revised Edition, 19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opacities (P.M.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greatest diameter &gt;10 mm but &lt; 50 mm or several opacities &gt; 10 mm but sum of greatest diameters &lt; 5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one or more opacities with sum of greatest diameter &gt; 50 mm but &lt; area of right upper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ombined area &gt; right upper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: the lower border of the RUZ is at the lower margin of the anterior end of the second rib on a non- lordotic or kyphotic film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Opacities (P.M.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1557360"/>
            <a:ext cx="8610480" cy="44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Guidelines for use of ILO Classification, Revised Edition, 19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of the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an introduction to the radiology of pneumoconios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read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the use of the ILO International Classification of Radiographs of Pneumoconi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Stud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for the use of the ILO International Classification of Radiographs of Pneumoconi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DS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mposiu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u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Opacities (P.M.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1552680"/>
            <a:ext cx="8458200" cy="4676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6248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Par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ural abnorm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mscribed (plaques) or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(R/L)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are recorde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maximum width &gt; 5 and &lt; 1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maximum width &gt; 1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¼ lateral projection of ches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&gt; ¼ but &lt; ½ lateral projection of ches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&gt; ½ lateral projection of ches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ural Cal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s and chest walls recorde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ymbols is oblig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ymbols are used it is understood that they are preceded by an appropriate word or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“susp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suggestive o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cities suggestive of”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 = coalesence of small pneumoconiotic opacities (can be used with A, B, C, of classif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 = bulla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= cancer of lung or ple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 = calcification in small pneumoconiotic o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= abnormality of cardiac size or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= cor pulm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 =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= marked distortion of intrathoracic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 = e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= definite emphysema (usually COP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= eggshell calcification of hilar and/or mediastinal lymph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= fractured rib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 = enlarged lymph nodes, hilar and/or media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 = honeycomb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= ill defined diaphragm (&gt; 1/3 of 1 hemi-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 = ill defined heart outline (&gt; 1/3 of left heart outlin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 = septal lines (Kerley B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= othe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= interlobular fissure pleural thick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x = pneumo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 = rheumatoid pneumoconiosis (Caplan’s synd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=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O: Sh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2133720"/>
            <a:ext cx="8610480" cy="2881080"/>
            <a:chOff x="304920" y="2133720"/>
            <a:chExt cx="8610480" cy="2881080"/>
          </a:xfrm>
        </p:grpSpPr>
        <p:grpSp>
          <p:nvGrpSpPr>
            <p:cNvPr id="109" name=""/>
            <p:cNvGrpSpPr/>
            <p:nvPr/>
          </p:nvGrpSpPr>
          <p:grpSpPr>
            <a:xfrm>
              <a:off x="309240" y="2137680"/>
              <a:ext cx="8601480" cy="2872800"/>
              <a:chOff x="309240" y="2137680"/>
              <a:chExt cx="8601480" cy="28728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09240" y="2137680"/>
                <a:ext cx="8601480" cy="1049400"/>
                <a:chOff x="309240" y="2137680"/>
                <a:chExt cx="8601480" cy="1049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74040" y="2137680"/>
                  <a:ext cx="8471160" cy="1049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um van X-straal opnam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e of X-ray pl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9240" y="2137680"/>
                  <a:ext cx="8601480" cy="10494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09240" y="3187080"/>
                <a:ext cx="521280" cy="1822680"/>
                <a:chOff x="309240" y="3187080"/>
                <a:chExt cx="521280" cy="18226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74040" y="3187080"/>
                  <a:ext cx="391320" cy="1822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/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9240" y="3187080"/>
                  <a:ext cx="521280" cy="18226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830520" y="3187080"/>
                <a:ext cx="521640" cy="1822680"/>
                <a:chOff x="830520" y="3187080"/>
                <a:chExt cx="521640" cy="18226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95320" y="3187080"/>
                  <a:ext cx="391320" cy="1822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/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30520" y="3187080"/>
                  <a:ext cx="521640" cy="18226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352160" y="3187080"/>
                <a:ext cx="521280" cy="911160"/>
                <a:chOff x="1352160" y="3187080"/>
                <a:chExt cx="521280" cy="91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41660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5216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873440" y="3187080"/>
                <a:ext cx="389880" cy="911160"/>
                <a:chOff x="1873440" y="3187080"/>
                <a:chExt cx="389880" cy="911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938240" y="3187080"/>
                  <a:ext cx="25956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73440" y="3187080"/>
                  <a:ext cx="3898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263320" y="3187080"/>
                <a:ext cx="521280" cy="911160"/>
                <a:chOff x="2263320" y="3187080"/>
                <a:chExt cx="521280" cy="911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327760" y="3187080"/>
                  <a:ext cx="39168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26332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84600" y="3187080"/>
                <a:ext cx="521280" cy="911160"/>
                <a:chOff x="2784600" y="3187080"/>
                <a:chExt cx="521280" cy="91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84940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8460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05880" y="3187080"/>
                <a:ext cx="389880" cy="911160"/>
                <a:chOff x="3305880" y="3187080"/>
                <a:chExt cx="389880" cy="911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70680" y="3187080"/>
                  <a:ext cx="2599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305880" y="3187080"/>
                  <a:ext cx="3898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696120" y="3187080"/>
                <a:ext cx="521640" cy="911160"/>
                <a:chOff x="3696120" y="3187080"/>
                <a:chExt cx="521640" cy="911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6092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96120" y="3187080"/>
                  <a:ext cx="52164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217760" y="3187080"/>
                <a:ext cx="521280" cy="1822680"/>
                <a:chOff x="4217760" y="3187080"/>
                <a:chExt cx="521280" cy="1822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282200" y="3187080"/>
                  <a:ext cx="391320" cy="1822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217760" y="3187080"/>
                  <a:ext cx="521280" cy="18226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39040" y="3187080"/>
                <a:ext cx="521280" cy="1822680"/>
                <a:chOff x="4739040" y="3187080"/>
                <a:chExt cx="521280" cy="1822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03840" y="3187080"/>
                  <a:ext cx="391320" cy="1822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39040" y="3187080"/>
                  <a:ext cx="521280" cy="18226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260320" y="3187080"/>
                <a:ext cx="521640" cy="1822680"/>
                <a:chOff x="5260320" y="3187080"/>
                <a:chExt cx="521640" cy="1822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325120" y="3187080"/>
                  <a:ext cx="391320" cy="1822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260320" y="3187080"/>
                  <a:ext cx="521640" cy="18226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781960" y="3187080"/>
                <a:ext cx="521280" cy="911160"/>
                <a:chOff x="5781960" y="3187080"/>
                <a:chExt cx="521280" cy="911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4640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tb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8196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303240" y="3187080"/>
                <a:ext cx="521280" cy="911160"/>
                <a:chOff x="6303240" y="3187080"/>
                <a:chExt cx="521280" cy="911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36804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tb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0324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24520" y="3187080"/>
                <a:ext cx="521640" cy="911160"/>
                <a:chOff x="6824520" y="3187080"/>
                <a:chExt cx="521640" cy="911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8932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24520" y="3187080"/>
                  <a:ext cx="52164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46160" y="3187080"/>
                <a:ext cx="521280" cy="911160"/>
                <a:chOff x="7346160" y="3187080"/>
                <a:chExt cx="521280" cy="9111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41060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34616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867440" y="3187080"/>
                <a:ext cx="521280" cy="911160"/>
                <a:chOff x="7867440" y="3187080"/>
                <a:chExt cx="521280" cy="9111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93224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867440" y="3187080"/>
                  <a:ext cx="52128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8389080" y="3187080"/>
                <a:ext cx="521640" cy="911160"/>
                <a:chOff x="8389080" y="3187080"/>
                <a:chExt cx="521640" cy="9111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8453880" y="3187080"/>
                  <a:ext cx="391320" cy="911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8389080" y="3187080"/>
                  <a:ext cx="521640" cy="911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352160" y="4098240"/>
                <a:ext cx="716040" cy="911520"/>
                <a:chOff x="1352160" y="4098240"/>
                <a:chExt cx="716040" cy="911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416600" y="4098240"/>
                  <a:ext cx="58608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/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352160" y="4098240"/>
                  <a:ext cx="71604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068200" y="4098240"/>
                <a:ext cx="716040" cy="911520"/>
                <a:chOff x="2068200" y="4098240"/>
                <a:chExt cx="716040" cy="911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133000" y="4098240"/>
                  <a:ext cx="58608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068200" y="4098240"/>
                  <a:ext cx="71604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784600" y="4098240"/>
                <a:ext cx="716040" cy="911520"/>
                <a:chOff x="2784600" y="4098240"/>
                <a:chExt cx="716040" cy="911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849400" y="4098240"/>
                  <a:ext cx="58608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84600" y="4098240"/>
                  <a:ext cx="71604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501000" y="4098240"/>
                <a:ext cx="716400" cy="911520"/>
                <a:chOff x="3501000" y="4098240"/>
                <a:chExt cx="716400" cy="911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565800" y="4098240"/>
                  <a:ext cx="58608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501000" y="4098240"/>
                  <a:ext cx="71640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781960" y="4098240"/>
                <a:ext cx="521280" cy="911520"/>
                <a:chOff x="5781960" y="4098240"/>
                <a:chExt cx="521280" cy="911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84640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781960" y="4098240"/>
                  <a:ext cx="52128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303240" y="4098240"/>
                <a:ext cx="521280" cy="911520"/>
                <a:chOff x="6303240" y="4098240"/>
                <a:chExt cx="521280" cy="911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36804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p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303240" y="4098240"/>
                  <a:ext cx="52128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824520" y="4098240"/>
                <a:ext cx="521640" cy="911520"/>
                <a:chOff x="6824520" y="4098240"/>
                <a:chExt cx="521640" cy="9115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8932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pl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24520" y="4098240"/>
                  <a:ext cx="52164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46160" y="4098240"/>
                <a:ext cx="521280" cy="911520"/>
                <a:chOff x="7346160" y="4098240"/>
                <a:chExt cx="521280" cy="9115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41060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l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46160" y="4098240"/>
                  <a:ext cx="52128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867440" y="4098240"/>
                <a:ext cx="521280" cy="911520"/>
                <a:chOff x="7867440" y="4098240"/>
                <a:chExt cx="521280" cy="9115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93224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867440" y="4098240"/>
                  <a:ext cx="52128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8389080" y="4098240"/>
                <a:ext cx="521640" cy="911520"/>
                <a:chOff x="8389080" y="4098240"/>
                <a:chExt cx="521640" cy="9115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8453880" y="4098240"/>
                  <a:ext cx="391320" cy="91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389080" y="4098240"/>
                  <a:ext cx="521640" cy="9115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09240" y="5010120"/>
                <a:ext cx="521280" cy="360"/>
                <a:chOff x="309240" y="5010120"/>
                <a:chExt cx="521280" cy="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0924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924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830520" y="5010120"/>
                <a:ext cx="521640" cy="360"/>
                <a:chOff x="830520" y="5010120"/>
                <a:chExt cx="521640" cy="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30520" y="5010120"/>
                  <a:ext cx="52164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30520" y="5010120"/>
                  <a:ext cx="52164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352160" y="5010120"/>
                <a:ext cx="521280" cy="360"/>
                <a:chOff x="1352160" y="5010120"/>
                <a:chExt cx="521280" cy="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35216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5216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873440" y="5010120"/>
                <a:ext cx="194760" cy="360"/>
                <a:chOff x="1873440" y="5010120"/>
                <a:chExt cx="194760" cy="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873440" y="5010120"/>
                  <a:ext cx="19476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73440" y="5010120"/>
                  <a:ext cx="19476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068200" y="5010120"/>
                <a:ext cx="194760" cy="360"/>
                <a:chOff x="2068200" y="5010120"/>
                <a:chExt cx="194760" cy="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068200" y="5010120"/>
                  <a:ext cx="19476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068200" y="5010120"/>
                  <a:ext cx="19476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263320" y="5010120"/>
                <a:ext cx="521280" cy="360"/>
                <a:chOff x="2263320" y="5010120"/>
                <a:chExt cx="521280" cy="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26332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26332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784600" y="5010120"/>
                <a:ext cx="521280" cy="360"/>
                <a:chOff x="2784600" y="5010120"/>
                <a:chExt cx="521280" cy="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8460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78460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305880" y="5010120"/>
                <a:ext cx="194760" cy="360"/>
                <a:chOff x="3305880" y="5010120"/>
                <a:chExt cx="194760" cy="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05880" y="5010120"/>
                  <a:ext cx="19476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305880" y="5010120"/>
                  <a:ext cx="19476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501000" y="5010120"/>
                <a:ext cx="194760" cy="360"/>
                <a:chOff x="3501000" y="5010120"/>
                <a:chExt cx="194760" cy="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501000" y="5010120"/>
                  <a:ext cx="19476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501000" y="5010120"/>
                  <a:ext cx="19476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696120" y="5010120"/>
                <a:ext cx="521640" cy="360"/>
                <a:chOff x="3696120" y="5010120"/>
                <a:chExt cx="521640" cy="3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696120" y="5010120"/>
                  <a:ext cx="52164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696120" y="5010120"/>
                  <a:ext cx="52164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217760" y="5010120"/>
                <a:ext cx="521280" cy="360"/>
                <a:chOff x="4217760" y="5010120"/>
                <a:chExt cx="521280" cy="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1776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1776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739040" y="5010120"/>
                <a:ext cx="521280" cy="360"/>
                <a:chOff x="4739040" y="5010120"/>
                <a:chExt cx="521280" cy="3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73904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3904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260320" y="5010120"/>
                <a:ext cx="521640" cy="360"/>
                <a:chOff x="5260320" y="5010120"/>
                <a:chExt cx="521640" cy="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60320" y="5010120"/>
                  <a:ext cx="52164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60320" y="5010120"/>
                  <a:ext cx="52164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781960" y="5010120"/>
                <a:ext cx="521280" cy="360"/>
                <a:chOff x="5781960" y="5010120"/>
                <a:chExt cx="521280" cy="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78196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8196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6303240" y="5010120"/>
                <a:ext cx="521280" cy="360"/>
                <a:chOff x="6303240" y="5010120"/>
                <a:chExt cx="521280" cy="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30324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30324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824520" y="5010120"/>
                <a:ext cx="521640" cy="360"/>
                <a:chOff x="6824520" y="5010120"/>
                <a:chExt cx="521640" cy="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824520" y="5010120"/>
                  <a:ext cx="52164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24520" y="5010120"/>
                  <a:ext cx="52164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7346160" y="5010120"/>
                <a:ext cx="521280" cy="360"/>
                <a:chOff x="7346160" y="5010120"/>
                <a:chExt cx="521280" cy="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34616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4616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867440" y="5010120"/>
                <a:ext cx="521280" cy="360"/>
                <a:chOff x="7867440" y="5010120"/>
                <a:chExt cx="521280" cy="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867440" y="5010120"/>
                  <a:ext cx="52128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867440" y="5010120"/>
                  <a:ext cx="52128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8389080" y="5010120"/>
                <a:ext cx="521640" cy="360"/>
                <a:chOff x="8389080" y="5010120"/>
                <a:chExt cx="521640" cy="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389080" y="5010120"/>
                  <a:ext cx="521640" cy="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389080" y="5010120"/>
                  <a:ext cx="521640" cy="3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304920" y="2133720"/>
              <a:ext cx="8610480" cy="2881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37160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334120"/>
            <a:ext cx="7391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_________________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e r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1600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____________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D.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O:                             NIOSH/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4191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ILOform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122720" y="228600"/>
            <a:ext cx="4479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BOD/ NCOH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40080" y="228600"/>
            <a:ext cx="4557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ILO Classificati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O International Classification of Radiographs of Pneumoconioses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an epidemiological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O Classification not intended to define pathological entities, take into account working capacity, nor imply a definition of pneumoconiosis for compensation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O International Classification of Radiographs of Pneumoconiose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 standard fi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these films enables the reader to categorise the appearances in a standardised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chy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Oform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45120" y="1600200"/>
            <a:ext cx="304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O Classification: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= acce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= minor de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= major defect but still interpr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= unre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O Classification: Abn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ances of pleura or parenchyma are consistent with pneumoconiosis proceed.  Use symbols and comments for any appearances that are definitely not pneumocon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probable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ances are the result of other aetiology do not class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ppearanc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ue to pneumoconiosis record, but note what other aetiology was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&lt; 1.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1.5 to &lt; 3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3 to &lt;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600200"/>
            <a:ext cx="358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&lt; 1.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1.5 to &lt; 3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3 to &lt; 10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2578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acity is rounded if its greatest diameter is less than 1.5 times its smallest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895400"/>
            <a:ext cx="8610480" cy="401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6064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Guidelines for use of ILO Classification, Revised Edition, 19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Opacities -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predominant type of o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at type e.g. “q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ether most opacities are of that type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irtually all opacities are that size and shape then record the symbol twice e.g. q/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other size or shape also seen then record this as a second letter e.g. q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0:53:09Z</dcterms:created>
  <dc:creator>A satisfied Microsoft Office User</dc:creator>
  <dc:description/>
  <dc:language>en-US</dc:language>
  <cp:lastModifiedBy>Jonny Myers</cp:lastModifiedBy>
  <dcterms:modified xsi:type="dcterms:W3CDTF">2004-02-23T11:39:46Z</dcterms:modified>
  <cp:revision>25</cp:revision>
  <dc:subject/>
  <dc:title>23.1 An introduction to the ILO Radiological Classification of the Pneumoconioses</dc:title>
</cp:coreProperties>
</file>