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7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xine Rubin" initials="MR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3-08-13T16:57:12.632000000" idx="2">
    <p:pos x="5448" y="99"/>
    <p:text>Use an example relevant to your course.</p:text>
  </p:cm>
</p:cmLst>
</file>

<file path=ppt/comments/comment12.xml><?xml version="1.0" encoding="utf-8"?>
<p:cmLst xmlns:p="http://schemas.openxmlformats.org/presentationml/2006/main">
  <p:cm authorId="0" dt="2013-08-13T16:49:34.983000000" idx="3">
    <p:pos x="5547" y="39"/>
    <p:text>Use a concept that is important for your course e.g. "Third World"; "justice" etc.</p:text>
  </p:cm>
</p:cmLst>
</file>

<file path=ppt/comments/comment14.xml><?xml version="1.0" encoding="utf-8"?>
<p:cmLst xmlns:p="http://schemas.openxmlformats.org/presentationml/2006/main">
  <p:cm authorId="0" dt="2013-08-13T16:53:40.290000000" idx="4">
    <p:pos x="5435" y="363"/>
    <p:text>As noted in the lecture plan - this should be an exmaple specifically tailored to your course</p:text>
  </p:cm>
</p:cmLst>
</file>

<file path=ppt/comments/comment7.xml><?xml version="1.0" encoding="utf-8"?>
<p:cmLst xmlns:p="http://schemas.openxmlformats.org/presentationml/2006/main">
  <p:cm authorId="0" dt="2013-08-13T16:45:19.590000000" idx="1">
    <p:pos x="5523" y="69"/>
    <p:text>A specific example should be inserted to illustrate the difference between a model and a theory (see the lecture plan's example about the Security Dilemma model and Realism theory)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5593-D82E-460A-8114-80F3E98ECDDB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513A-F2DF-4E88-AC96-3266D5A7A705}" type="slidenum">
              <a:rPr b="0" lang="en-ZA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E72-F60C-4E99-A74B-7F0B6001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472-F70F-4A76-80DA-050A0E61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A36-68E6-4A3D-A471-7B958BE7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BF2-5DA2-43E8-BD84-C6A8935F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59CB-EB94-4992-BDE3-141D5753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1B03-6923-4C8F-A19B-E60D2CD1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3626-C5EC-414D-BAD9-1CB83A71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D658-0913-4C48-B0C5-0F84B7D7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9958-5A5E-410A-8300-1061FAD5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4FC4-C1E0-4657-8608-A53E6D70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5A12-BA4D-460C-8F3A-CE87DD4C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F3C-5403-4DEA-A5EB-F7A1C3FD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B6C8-B159-430F-85EC-2A6CEC83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ADCE-8331-41A8-BA84-D0821A93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5F68-BEBB-47BC-8926-054AA270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E26F-F3B3-4AAB-8DD9-8FF73C75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FDFF-E02E-4E5E-8904-665866F2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78DB4-4C11-4461-B2CE-71C20031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A1940-D4CE-4750-86D7-45E759F3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7D039-E35E-4CE3-9EF0-C62FE076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9BD68-14BA-4FCC-B85C-95D74688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3B7A6-7E45-40AA-9971-B8E28D7C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47A-81D8-4EA9-9292-E7DE0BEC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768AC-8D7A-416B-8372-4C4EE124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79D0F-6756-4F3E-938B-822B9B8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16EDB-090A-4D84-8647-856EB42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9826A-D4B7-483A-A72B-1BB907B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B3017-3217-4C92-A891-F2442CD5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F9735-DAA0-4BD9-BBB5-F5D1A5C3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598F6-488D-424C-8D9E-F7C0AA29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00895-86D3-4952-BAF2-B4615805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7D2E9-F6AC-4CBF-901F-BD69175C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E4B98-462A-4798-89F1-A7F1BA61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8D5-23C2-425E-B433-BC8E370F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300FC-C177-4CE3-A334-718588A6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9E3D1-4C25-401E-8981-A0C64D0D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9E613-8F16-4553-967A-8B3F4480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EFC49-C687-4ED8-A593-695D93BD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B2BB4-05C2-46EB-8DAB-1830625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A8CD5-2038-4BBF-AB63-A6B6B11D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58E06-CB44-461E-9D01-19816269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E0031-8B78-48F0-85B9-2D021B4E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57FD6-17F7-4315-9DE4-07C945AB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A1E61-AEC4-458C-9F90-08820F06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AE3-C875-41A1-87DC-B317930A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BB0CE-9393-4D83-884C-0BD8413A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82FC3-2A43-442D-8871-6BB023D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15939-3010-4645-A3D4-1971A789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C3C35-42C1-48CA-BB89-F1FD143D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DC56E-0279-4F22-8F04-9C1B11E3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090BB-AA65-4065-907A-B0DF5A2A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18C99-5DE4-41D4-9981-B3401DF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4BD55-3BEE-46A7-BB0C-0E0EAE6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F89B9-C163-47A5-8E3E-472F8D0E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68DD5-E05B-488D-B333-03A702F8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EB8-0126-465D-8578-715D46EA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FAEE3-539D-448C-9EAF-FA70856F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A0E8D-CD5F-4141-A958-8C6937FE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A6B87-D787-4F3D-BD89-B0023235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2C10E-85CC-45CB-85DA-1E9286D1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543E3-CDB8-4336-8A61-E6159D50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B5B40-58AD-4651-9281-A03F2221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C17D-6AB4-4478-AC6D-E6C4EB0A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9A755-B71C-46A4-9FE1-59823F9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21C16-0352-4314-87C5-51CB4771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6F446-B834-462A-BD71-0A5360F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0BF-52DF-4A34-B646-10944D75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01385-8510-44F8-B5D3-1E4A34C9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F17BD-31DC-4C03-BB8B-10AE4863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2BDB-7124-4007-8AB2-F0FEC957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2D32E9-8BB6-4637-9269-06E1B6CE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C0CB5-E3B7-435F-A5BD-52EC094E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F8D24-AC30-4B0D-A75B-3879300C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D70B6-0400-450D-9B7C-0182AF49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6A87B-492C-4004-BB42-CF093FEA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AD6B7-D426-45C4-807B-031209A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0FA7C-5FF4-4C12-8782-389B943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B12-665D-4C39-8944-2A3A3276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3004E-56A3-49DB-BDCD-B5F6D72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0AFC6-4E5A-49EB-97FC-33A9EBE8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33A0A-FAD6-45CE-810F-90F6D805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E0716-6FC5-4724-BFAB-FD254D29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17C17-FA5C-4D03-ADBC-26B57F75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12962-3BA1-4BC1-B983-F7A82FCB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8C116-04DF-44AC-A1A7-6FDDB84A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07F56-74E0-4CE6-8CDD-AB4BE371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141E7-B2B4-4628-8405-FC19EBB2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9152-D480-4B74-A7C6-8BEC561C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78B-0FC6-4373-B47A-2612B5B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42777-0C8F-4F6E-B0BE-0118E207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88372-FBF4-4455-8528-79BFED3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42DF2-492B-46F4-A3CA-1F189CE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FD447-1533-49D7-BD0C-F576A77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6BAF4-E403-4089-AE83-495FC1BD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354BB-E2EF-4E2B-A2B8-4D0D9E75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40E9E-4DEC-4AD2-B775-A9B4D668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1BAE-6CFF-406E-A810-173249CBF83B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4806-FFBC-4FFF-B44C-03D43B5E4089}" type="slidenum">
              <a:rPr b="1" lang="en-Z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C4F9-410E-4CAB-9A1C-B04FBC28BDDD}" type="datetime">
              <a:rPr b="0" lang="en-ZA" sz="2000" spc="-1" strike="noStrike">
                <a:solidFill>
                  <a:srgbClr val="ffffff"/>
                </a:solidFill>
                <a:latin typeface="Times New Roman"/>
              </a:rPr>
              <a:t>26-07-29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538-0AE1-4AC3-B552-4E3462FB3C4E}" type="slidenum">
              <a:rPr b="1" lang="en-ZA" sz="14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160C-552A-4878-AB29-3D50F83933DB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328-1B30-4F6E-BAF1-8E9B2CCDAF58}" type="slidenum">
              <a:rPr b="1" lang="en-Z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BBFB-3BEC-4173-B116-FA5347EF09F4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FF0C-0A0E-4FDE-8500-06BD28A82B7A}" type="slidenum">
              <a:rPr b="1" lang="en-Z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744D-6CEC-4912-9C43-DA7A1E16DAD6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BEEC-A97B-48EA-873A-3C4AE803C7F7}" type="slidenum">
              <a:rPr b="1" lang="en-Z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E007-835E-4B65-85E3-4BF16591C9CF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7330-2EAC-4F51-B415-5153BF931F0A}" type="slidenum">
              <a:rPr b="1" lang="en-Z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74DE-A61B-446C-8828-E33A5B4F59B3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CBC9-4525-40AC-B335-6D9D876F23DC}" type="slidenum">
              <a:rPr b="1" lang="en-Z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C9E2-A298-4C17-9034-865A50F0380D}" type="datetime">
              <a:rPr b="0" lang="en-ZA" sz="1400" spc="-1" strike="noStrike">
                <a:solidFill>
                  <a:srgbClr val="575f6d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DC0D-3B50-4866-BA34-F576A8672D8E}" type="slidenum">
              <a:rPr b="1" lang="en-Z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creativecommons.org/licenses/by-sa/2.5/za/" TargetMode="External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fff39d"/>
                </a:solidFill>
                <a:latin typeface="Tw Cen MT"/>
              </a:rPr>
              <a:t>Concept, Theory, case</a:t>
            </a:r>
            <a:endParaRPr b="0" lang="en-US" sz="4400" spc="-1" strike="noStrike">
              <a:solidFill>
                <a:srgbClr val="fff39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w Cen MT"/>
              </a:rPr>
              <a:t>Deciphering the Differenc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260D-143F-4948-9BC0-7D78C1AD9D3F}" type="slidenum">
              <a:rPr b="1" lang="en-ZA" sz="1400" spc="-1" strike="noStrike">
                <a:solidFill>
                  <a:srgbClr val="fff39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Realism vs. Neorealism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fore World War II 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‘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lism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meant something different to what it meant in the post-WWII cold war environmen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ical realism puts an emphasis on the self-interested and unchanging human nature, which makes states self-interested and power-seeking uni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o-realism explains conflict by the state of anarchy in the international sphere. It is less power-seeking, but survival-seeking behaviour that leads to conflic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7088-8D6B-4B76-A7C7-D8938538DC61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575f6d"/>
                </a:solidFill>
                <a:latin typeface="Tw Cen MT"/>
              </a:rPr>
              <a:t>3. Quantitative vs. Qualitative Approaches</a:t>
            </a:r>
            <a:endParaRPr b="0" lang="en-US" sz="40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antitative and qualitative approaches often ask and answer different questions, so that they may conceptualise ideas/phenomena differently despite often using the same word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using a quantitative approach, scholars must use concepts in a way in which they are quantifiab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alitative approaches can allow for much broader conceptualisatio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A73-DBF9-4617-89DF-4E9A02C48C3C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6610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0" y="0"/>
          <a:ext cx="9144000" cy="1736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ZA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lass exercise: Conceptualising “Democracy” for a Qualitative and a Quantitative Stud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1908000" y="1773360"/>
          <a:ext cx="4896000" cy="500544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Quali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Quanti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548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9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2A34-25DD-4109-B998-73D9636D1F31}" type="slidenum">
              <a:rPr b="1" lang="en-ZA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4. Applying theory to case.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In this course, we apply different theories and models, employing different concepts, to analyse specific events in history, i.e. cas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ories and models by definition are analytical tools that simplify the “reality” of a case in order to make it analysab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us, different theoretical lenses simplify cases in different ways, and thus can shed light on different aspects of a conflict, as they ask questions differently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6B00-54B8-4A49-AB5D-EC768805B543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1197000"/>
          <a:ext cx="9180360" cy="5661000"/>
        </p:xfrm>
        <a:graphic>
          <a:graphicData uri="http://schemas.openxmlformats.org/drawingml/2006/table">
            <a:tbl>
              <a:tblPr/>
              <a:tblGrid>
                <a:gridCol w="9180360"/>
              </a:tblGrid>
              <a:tr h="56610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Question: What caused the Great Lakes Conflict of 1996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hat kinds of sub-questions would we ask to answer this, looking at the conflict from 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… </a:t>
                      </a:r>
                      <a:r>
                        <a:rPr b="1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alist</a:t>
                      </a: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perspectiv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…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ocial constructivist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erspectiv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0" y="0"/>
          <a:ext cx="9144000" cy="1189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ZA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lass exercise: Looking at the 1996 Great Lakes Conflict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</a:tbl>
          </a:graphicData>
        </a:graphic>
      </p:graphicFrame>
      <p:sp>
        <p:nvSpPr>
          <p:cNvPr id="40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05BC-2EA3-4531-A398-3D419AD053B9}" type="slidenum">
              <a:rPr b="1" lang="en-ZA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What is a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concept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theory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model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ZA" sz="2600" spc="-1" strike="noStrike">
                <a:solidFill>
                  <a:srgbClr val="000000"/>
                </a:solidFill>
                <a:latin typeface="Tw Cen MT"/>
              </a:rPr>
              <a:t>variable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What makes good research?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s quantitative always better than qualitativ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What is the use of applying theories to a cas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38E7-0217-493E-92F0-90A5A1F955E3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2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23F2-219A-4343-8904-0C4EEB12A78A}" type="slidenum">
              <a:rPr b="1" lang="en-US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Content Placeholder 3" descr="http://i.creativecommons.org/l/by/3.0/88x31.png"/>
          <p:cNvPicPr/>
          <p:nvPr/>
        </p:nvPicPr>
        <p:blipFill>
          <a:blip r:embed="rId1"/>
          <a:srcRect l="0" t="-25343" r="0" b="-25343"/>
          <a:stretch/>
        </p:blipFill>
        <p:spPr>
          <a:xfrm>
            <a:off x="3276720" y="1197000"/>
            <a:ext cx="2603520" cy="13161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7"/>
          <p:cNvSpPr/>
          <p:nvPr/>
        </p:nvSpPr>
        <p:spPr>
          <a:xfrm>
            <a:off x="755640" y="3068640"/>
            <a:ext cx="777708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Tw Cen MT"/>
              </a:rPr>
              <a:t>This presentation is licenced under the Creative Commons Attribution 2.5 South Africa License. To view a copy of this licence, visit </a:t>
            </a:r>
            <a:r>
              <a:rPr b="0" lang="en-ZA" sz="1800" spc="-1" strike="noStrike" u="sng">
                <a:solidFill>
                  <a:srgbClr val="d2611c"/>
                </a:solidFill>
                <a:uFillTx/>
                <a:latin typeface="Tw Cen MT"/>
                <a:hlinkClick r:id="rId2"/>
              </a:rPr>
              <a:t>http://creativecommons.org/licenses/by/2.5/za/</a:t>
            </a:r>
            <a:r>
              <a:rPr b="1" lang="en-ZA" sz="1800" spc="-1" strike="noStrike">
                <a:solidFill>
                  <a:srgbClr val="ff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Tw Cen MT"/>
              </a:rPr>
              <a:t>send a letter to Creative Commons, 171 Second Street, Suite 300, San Francisco, California 94105, US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Defini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Debates in Academi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Quantitative vs. Qualitative Approach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7598d9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Applying Theory to C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9A1B-BF1C-4810-9CBF-D18E9F72306D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1. Definitions </a:t>
            </a: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–</a:t>
            </a: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 Concep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ncept is one word, or phrase, that suggests an abstract idea or phenomenon in the social scienc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epts are highly conteste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epts can be ambiguous – a major task in philosophical and theoretical writing is to clarify th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cepts are building blocks for theory – it is important to be clear what you mean when you use them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75B0-DB36-4EC6-B97B-AF7AA29885EE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6610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buClr>
                          <a:srgbClr val="ffffff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ake a piece of paper and write down your definition of what freedom 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buClr>
                          <a:srgbClr val="ffffff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buClr>
                          <a:srgbClr val="ffffff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hat are its components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just">
                        <a:buClr>
                          <a:srgbClr val="ffffff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hat are the similarities/differences of your definitions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0" y="0"/>
          <a:ext cx="9144000" cy="11253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2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ZA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lass exercise: What is freedom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</a:tbl>
          </a:graphicData>
        </a:graphic>
      </p:graphicFrame>
      <p:sp>
        <p:nvSpPr>
          <p:cNvPr id="36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B2FE-39C5-4271-AC73-0DA68CF28C6B}" type="slidenum">
              <a:rPr b="1" lang="en-ZA" sz="1400" spc="-1" strike="noStrike">
                <a:solidFill>
                  <a:srgbClr val="575f6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1. Definitions </a:t>
            </a: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–</a:t>
            </a: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 Theory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Theories are an attempt to logically and systematically explain real-life phenomena in an accessible and clear w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E4DA-1F94-4712-BB92-108E6D34ADE7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1908000" y="3284640"/>
            <a:ext cx="49723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1. Definitions </a:t>
            </a: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–</a:t>
            </a: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 Theory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5280" y="1599840"/>
            <a:ext cx="8370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51"/>
              </a:spcAft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ories have different function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spcAft>
                <a:spcPts val="51"/>
              </a:spcAft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ke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generalisation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nd classifications – grand theories try to explain how the world works e.g. Marxis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spcAft>
                <a:spcPts val="51"/>
              </a:spcAft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ild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hypothes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to be tested through empirical resear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spcAft>
                <a:spcPts val="51"/>
              </a:spcAft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aw connection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t an abstract level, which might not be immediately observable, to guide research in new dire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spcAft>
                <a:spcPts val="51"/>
              </a:spcAft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nd identify potential causal mechanisms and other relationships between different phenome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B4DB-BB69-4C31-9D3F-163EA7235709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1. Definitions – Model 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dels are mid-level theories that are restricted to </a:t>
            </a: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specific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phenomen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y work as analytical tools, simplifying specific phenomena, and use a set of specific concepts to look at a phenomen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y are often based on greater theories, however, scholars with different theoretical standpoints can use the same models as tools of analysi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CFEA-012F-4ED7-9FA5-DFC2B55A7A71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1. Definitions </a:t>
            </a: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–</a:t>
            </a: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 Variabl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iables are concepts that are defined in such a way that they can be observed and/or measured in some w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iables can be evaluated in terms of to their validity and reliabil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distinguish between dependent and independent variab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6B85-DAB8-4B32-8510-C1C7CD7F9951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575f6d"/>
                </a:solidFill>
                <a:latin typeface="Tw Cen MT"/>
              </a:rPr>
              <a:t>2. Debates in Academia?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Academia is all about debate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–</a:t>
            </a: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 can you think of som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000000"/>
                </a:solidFill>
                <a:latin typeface="Tw Cen MT"/>
              </a:rPr>
              <a:t>Theories evolve over time and with deba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Slide Number Placeholder 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B01F-7952-4C8C-9FE2-9D1806214D34}" type="slidenum">
              <a:rPr b="1" lang="en-Z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3:31:30Z</dcterms:created>
  <dc:creator>Laura</dc:creator>
  <dc:description/>
  <dc:language>en-US</dc:language>
  <cp:lastModifiedBy>Neil Berry</cp:lastModifiedBy>
  <dcterms:modified xsi:type="dcterms:W3CDTF">2014-04-22T13:07:12Z</dcterms:modified>
  <cp:revision>47</cp:revision>
  <dc:subject/>
  <dc:title>Skills development lectures</dc:title>
</cp:coreProperties>
</file>