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7.xml" ContentType="application/vnd.openxmlformats-officedocument.presentationml.comments+xml"/>
  <Override PartName="/ppt/comments/comment14.xml" ContentType="application/vnd.openxmlformats-officedocument.presentationml.comments+xml"/>
  <Override PartName="/ppt/comments/comment10.xml" ContentType="application/vnd.openxmlformats-officedocument.presentationml.comments+xml"/>
  <Override PartName="/ppt/comments/comment22.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commentAuthors.xml><?xml version="1.0" encoding="utf-8"?>
<p:cmAuthorLst xmlns:p="http://schemas.openxmlformats.org/presentationml/2006/main">
  <p:cmAuthor id="0" name="User" initials="U" lastIdx="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10.xml><?xml version="1.0" encoding="utf-8"?>
<p:cmLst xmlns:p="http://schemas.openxmlformats.org/presentationml/2006/main">
  <p:cm authorId="0" dt="2013-09-10T14:23:48.237000000" idx="2">
    <p:pos x="5432" y="118"/>
    <p:text>Modify example to be consistent with your earlier example.</p:text>
  </p:cm>
</p:cmLst>
</file>

<file path=ppt/comments/comment12.xml><?xml version="1.0" encoding="utf-8"?>
<p:cmLst xmlns:p="http://schemas.openxmlformats.org/presentationml/2006/main">
  <p:cm authorId="0" dt="2013-09-10T14:24:36.285000000" idx="3">
    <p:pos x="5475" y="75"/>
    <p:text>Modify example to be consistent with earlier example.
Remember to explain what was used to narrow the question.
In this example gender; location; country; time period were used to refine the question.</p:text>
  </p:cm>
</p:cmLst>
</file>

<file path=ppt/comments/comment14.xml><?xml version="1.0" encoding="utf-8"?>
<p:cmLst xmlns:p="http://schemas.openxmlformats.org/presentationml/2006/main">
  <p:cm authorId="0" dt="2013-09-10T14:29:14.131000000" idx="4">
    <p:pos x="5389" y="97"/>
    <p:text>This should be edited to be relevant to your example. Select one of the items that you used to narrow your topic. 
In this example, the logic behind the time period used was explained.</p:text>
  </p:cm>
</p:cmLst>
</file>

<file path=ppt/comments/comment17.xml><?xml version="1.0" encoding="utf-8"?>
<p:cmLst xmlns:p="http://schemas.openxmlformats.org/presentationml/2006/main">
  <p:cm authorId="0" dt="2013-09-10T14:58:32.654000000" idx="5">
    <p:pos x="5475" y="75"/>
    <p:text>Modify example to be consistent with earlier example.
Remember to explain what was used to narrow the question.
In this example gender, location, country, time period, AND a narrower idea of ‘democratisation’ have been used.</p:text>
  </p:cm>
</p:cmLst>
</file>

<file path=ppt/comments/comment19.xml><?xml version="1.0" encoding="utf-8"?>
<p:cmLst xmlns:p="http://schemas.openxmlformats.org/presentationml/2006/main">
  <p:cm authorId="0" dt="2013-09-10T15:02:29.649000000" idx="6">
    <p:pos x="5518" y="82"/>
    <p:text>This should be edited to be relevant to your example. 
It is important that you demonstrate how concepts may be open to contest. This is covered in the first lecture in this series: “Concept, Theory and Case”.</p:text>
  </p:cm>
</p:cmLst>
</file>

<file path=ppt/comments/comment20.xml><?xml version="1.0" encoding="utf-8"?>
<p:cmLst xmlns:p="http://schemas.openxmlformats.org/presentationml/2006/main">
  <p:cm authorId="0" dt="2013-09-10T15:03:33.799000000" idx="7">
    <p:pos x="4867" y="1591"/>
    <p:text>Modify to be relevant to earlier example.</p:text>
  </p:cm>
</p:cmLst>
</file>

<file path=ppt/comments/comment22.xml><?xml version="1.0" encoding="utf-8"?>
<p:cmLst xmlns:p="http://schemas.openxmlformats.org/presentationml/2006/main">
  <p:cm authorId="0" dt="2013-09-10T15:12:02.761000000" idx="8">
    <p:pos x="5191" y="1858"/>
    <p:text>Pose a question relevant to your course.
Be sure to offer possible ways it could be improved.</p:text>
  </p:cm>
</p:cmLst>
</file>

<file path=ppt/comments/comment23.xml><?xml version="1.0" encoding="utf-8"?>
<p:cmLst xmlns:p="http://schemas.openxmlformats.org/presentationml/2006/main">
  <p:cm authorId="0" dt="2013-09-10T15:19:28.573000000" idx="9">
    <p:pos x="5284" y="288"/>
    <p:text>Edit to be relevant to your earlier example.
Demonstrate that there can be more than one version of the narrower question.
Explain that the question set is guided by the word limit. The theory question posed in (2) would NOT be well covered in 5000 words since it requires an explanation of the theory as well as application to the case, followed by an analysis of its strengths and weaknesses. 
Let your examples be guided by your course requirements - try offer questions that are answerable within the word limit.</p:text>
  </p:cm>
</p:cmLst>
</file>

<file path=ppt/comments/comment7.xml><?xml version="1.0" encoding="utf-8"?>
<p:cmLst xmlns:p="http://schemas.openxmlformats.org/presentationml/2006/main">
  <p:cm authorId="0" dt="2013-09-10T14:02:57.494000000" idx="1">
    <p:pos x="5369" y="89"/>
    <p:text>Use an example relevant to your course.</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39d"/>
                </a:solidFill>
                <a:latin typeface="Tw Cen MT"/>
              </a:rPr>
              <a:t>Click to move the slide</a:t>
            </a:r>
            <a:endParaRPr b="1" lang="en-US" sz="4400" spc="-1" strike="noStrike">
              <a:solidFill>
                <a:srgbClr val="fff39d"/>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8136-9238-4951-B893-C410EDF564D6}" type="slidenum">
              <a:rPr b="0" lang="en-Z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274E-F64D-4D74-BA2C-F31FCA8929D2}" type="slidenum">
              <a:rPr b="0" lang="en-ZA" sz="1200" spc="-1" strike="noStrike">
                <a:solidFill>
                  <a:srgbClr val="000000"/>
                </a:solidFill>
                <a:latin typeface="Tw Cen MT"/>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42411-EC8A-41AD-B94F-476F8C210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2AAAA-E8FD-42D8-91C3-496A48B2B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F76F-28B4-4376-A317-EAA4A62B3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022D-7E41-426B-BB2F-5657675C2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F1526-37FF-4C30-A8DE-46C21302F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26786-920F-4A92-B249-165EBA21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CC0D2-A570-4FC9-A2F4-4358643C6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E157-EE0E-4DEA-A4F2-5E4617B3C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96F2-0D53-4450-A11B-585227CC6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CB73E-B900-4AA5-8141-53C7F5D2D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49E08-8BE9-4F53-BE2F-B77A17E2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3AE51-EB24-4D22-B9EF-66984AFA4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1335A-419A-438E-BA46-DBD6C2D49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3BE87-6C5D-4C2E-9DAA-13EFB45FD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31530-C518-4DC3-99D0-6508762FA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D565B-412F-4DD4-A30D-B98226B2B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88E2D-FC6A-4CA2-9C5A-9254295BE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3015B15-6112-4B5E-911C-73CB464E3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859B20-C705-40A7-966B-B02C6ED43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F9EEC3-9C69-4CCE-8D27-8BE5A79FC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0D1BD2-A95D-438C-AF22-95E446883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4E1E90-E9E4-4A8F-BEFE-4FEC2742E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766A-DD01-4646-858C-EB53B764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4F011A-7C19-451A-9B9C-E73A745EA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04C7FA-5A4D-4EA3-B4F0-93839BDC1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761E9A-A3E7-4E3C-A700-07F8874A6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7D3926-1399-462F-9CBC-D18777B5F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B56FFB-371C-40CC-BD33-427C1FDA1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82BEAE2-AE70-4098-803B-61009F15F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585917A-D489-4AFF-AF87-2123D7C59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E1C8115-9989-4D88-BDCF-6B6002A61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BC20FE-7655-4082-B6EA-8553ED1CB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F9624A-E013-48B5-9657-816E5DED5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0169F-5E36-46E7-AF43-B32C82759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D86302-EC35-4880-9E56-6CF9B5EA1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D563AC-980A-4511-9972-3A976B06F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90A0C5-5BEA-46AB-8954-A7254F76C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4F3021-3354-4B48-9316-8E90B7917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6B6498-9E92-4060-B8DB-234CED61C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78341D-B1E0-4880-9F51-7EF5DB938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F1FEF6-1420-4787-97B5-ECBFAFB14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F9DBD30-3E27-4191-9353-757B19688A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32C7D8-DAE7-4220-BCD9-196EBED44D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ED86CA8-A916-4517-9C0D-FA751283D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82B1-B0DE-45D6-868D-0D26CE24A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C0BC05-202C-4817-8160-92F1EB8BE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BBEAD1-1FEB-4BBD-A03D-CADCE6D67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CB327B-0544-42E7-8E3D-B02E2FB35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8CC49E-8139-46A9-9BDF-1E1ED8251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AD7CEC-0CE8-44B5-B008-9F28370C35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55D0E9-24D5-4029-8512-5AF6222CC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EB3716-E12C-4DF0-B178-135DFF5C3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D3AA5A-C075-40C2-AC75-92F0ADA96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8C437D-66D3-4529-9A8D-080BFEBD3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06DC63-BAC7-4B56-B34A-9AB7B2189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96DA-66E9-4AD1-8746-673239448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82A657-AEC5-4E61-B3E8-F8C99BCDDA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FA2042-CA9D-4E17-8434-92C309614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BC448-0C4E-4830-A2E4-38E6DD79D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A39B4-5176-41BB-90D9-434E4155D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9B766B-668B-4F8E-B6CE-0501966E3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B9934A-3EAE-460D-8207-A81F18F07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435AEF-E907-449B-9708-75B358E75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CF22A-02D7-49FA-B98C-E77434899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46126-F6B9-47FE-9458-7FB542F61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45D8B-C48C-42B2-A9CC-1F79E9810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285A-4334-4538-8D82-30AF1DAF4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00FE3-2628-4B32-AFB5-5B80D151A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E8CA02-B7D4-478F-BC95-EB5C18FA6C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F24D3-B2FE-4BDF-B2E2-0B0AC251F7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ED1B983-A314-4243-BDB7-3F05EA638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06E59D-5020-4CEA-B031-666B172BFC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0D4F166-3521-4410-B712-F989EB4F6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DA0892-32E4-4CA5-9C87-13695BD9CA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F7CE88-2E28-4F9D-8E13-E4145C069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BD1C62-4C97-4F9E-A8E4-3B448E27E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20776D-52C7-41F6-943F-E83578FFF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DE35-DDB7-4686-B1AA-F23F71CF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5A1A77-6DE7-465B-AC0F-724585CC4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1E8823-6C3B-4734-BA2B-C1B9B170E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96F9AE-904F-46E0-AEFB-48713A282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23B2AA2-FEDA-4A17-A46C-353CAC8678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880621A-2C28-4DD1-A22C-53B1B1790F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E72BDE-14C4-42C5-996F-086369FE87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62A37-3442-46DC-91B0-6E3916428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58DD7-C336-4E94-A8CD-DBFC6FA00D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72E3C-881D-4B61-8B7E-E67572E77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401EC-E05D-4BF9-8759-B3FC22DDC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63D6-7914-4C8E-B3C9-34D77BCC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268EB9-C2A1-4C1F-BAF5-D56EFA2CD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76F7C-CEAA-4956-A98D-35C07271B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520DE-86AB-4909-B29F-10633B078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EAD8B-01C9-44B2-B897-0048E424A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D46E9-294A-4B42-9D2B-22419508C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7F7169-E161-45E1-A1AB-6C88F932A6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87AB04-61EC-41B5-9AA1-6904407FD1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3E94-4381-47E5-9F3C-CE89E61CF3A4}"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BAD1-D711-4394-87FB-AEFCD22403AE}"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39d"/>
                </a:solidFill>
                <a:latin typeface="Tw Cen MT"/>
              </a:rPr>
              <a:t>Click to edit the title text format</a:t>
            </a:r>
            <a:endParaRPr b="1"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844F-5B13-43A2-92B9-9589CEE83D4A}" type="datetime">
              <a:rPr b="0" lang="en-ZA" sz="2000" spc="-1" strike="noStrike">
                <a:solidFill>
                  <a:srgbClr val="ffffff"/>
                </a:solidFill>
                <a:latin typeface="Times New Roman"/>
              </a:rPr>
              <a:t>26-07-29</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3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A453-0026-422C-8129-2B4B9D6536C3}" type="slidenum">
              <a:rPr b="1" lang="en-ZA" sz="1400" spc="-1" strike="noStrike">
                <a:solidFill>
                  <a:srgbClr val="fff3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FD9F-EC68-4907-89E8-872F3E8E8CC6}"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D833-D756-408A-9584-182B309E09C4}" type="slidenum">
              <a:rPr b="1"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F8BF-A2A4-4964-9FD9-9917CA2A8402}"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8858-0509-4875-858D-83992B6D79DE}"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597F-1CF4-449F-A7AE-BDCA7B8CECB2}"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6D2E-E28A-42F0-B36E-4D70B8D400F3}"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805F-BA1A-4308-A769-870A862A3AF5}"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575f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F32C-A922-48CC-B944-1CAA09E0EA70}" type="slidenum">
              <a:rPr b="1" lang="en-ZA" sz="1400" spc="-1" strike="noStrike">
                <a:solidFill>
                  <a:srgbClr val="575f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C3BD-2C3F-4E66-993D-AEF2F49D144D}"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1C2E-201A-4F4F-B38A-048BB3390675}" type="slidenum">
              <a:rPr b="1" lang="en-Z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7922-E7F6-4152-9576-CE4E02F0CF67}"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0DAF-BCF8-4EC3-B665-08812072A779}"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reativecommons.org/licenses/by-sa/2.5/za/" TargetMode="External"/><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834920" y="3644640"/>
            <a:ext cx="7003800" cy="222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800" spc="-1" strike="noStrike">
                <a:solidFill>
                  <a:srgbClr val="fff39d"/>
                </a:solidFill>
                <a:latin typeface="Tw Cen MT"/>
                <a:ea typeface="ＭＳ Ｐゴシック"/>
              </a:rPr>
              <a:t>FORMULATING A RESEARCH QUESTION</a:t>
            </a:r>
            <a:endParaRPr b="1" lang="en-US" sz="4800" spc="-1" strike="noStrike">
              <a:solidFill>
                <a:srgbClr val="fff39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Consider…</a:t>
            </a:r>
            <a:endParaRPr b="1" lang="en-US" sz="4400" spc="-1" strike="noStrike">
              <a:solidFill>
                <a:srgbClr val="575f6d"/>
              </a:solidFill>
              <a:latin typeface="Tw Cen MT"/>
            </a:endParaRPr>
          </a:p>
        </p:txBody>
      </p:sp>
      <p:sp>
        <p:nvSpPr>
          <p:cNvPr id="382" name=""/>
          <p:cNvSpPr txBox="1"/>
          <p:nvPr/>
        </p:nvSpPr>
        <p:spPr>
          <a:xfrm>
            <a:off x="612720" y="1599840"/>
            <a:ext cx="8153280" cy="49244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Democratisation in Africa.”</a:t>
            </a: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women in democratisation in Anglophone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broad topic was refined by using gender and language group.</a:t>
            </a:r>
            <a:endParaRPr b="0" lang="en-US" sz="2900" spc="-1" strike="noStrike">
              <a:solidFill>
                <a:srgbClr val="000000"/>
              </a:solidFill>
              <a:latin typeface="Tw Cen MT"/>
            </a:endParaRPr>
          </a:p>
        </p:txBody>
      </p:sp>
      <p:sp>
        <p:nvSpPr>
          <p:cNvPr id="3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0B69-620D-4002-8F75-7902A9186F98}"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84" name="Down Arrow 4"/>
          <p:cNvSpPr/>
          <p:nvPr/>
        </p:nvSpPr>
        <p:spPr>
          <a:xfrm>
            <a:off x="4067280" y="2349360"/>
            <a:ext cx="936360" cy="1511280"/>
          </a:xfrm>
          <a:prstGeom prst="downArrow">
            <a:avLst>
              <a:gd name="adj1" fmla="val 50000"/>
              <a:gd name="adj2" fmla="val 50011"/>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Focused Topic</a:t>
            </a:r>
            <a:endParaRPr b="1" lang="en-US" sz="4400" spc="-1" strike="noStrike">
              <a:solidFill>
                <a:srgbClr val="575f6d"/>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Similar process to earlier step.</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now be familiar with the major debat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also have a good sense of what information and resources are available.</a:t>
            </a:r>
            <a:endParaRPr b="0" lang="en-US" sz="3200" spc="-1" strike="noStrike">
              <a:solidFill>
                <a:srgbClr val="000000"/>
              </a:solidFill>
              <a:latin typeface="Tw Cen MT"/>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675F-15F6-4419-B91C-9F79FDFBD3CD}"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F743-07EC-40B0-AD84-881DDADC42E7}"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389" name=""/>
          <p:cNvSpPr txBox="1"/>
          <p:nvPr/>
        </p:nvSpPr>
        <p:spPr>
          <a:xfrm>
            <a:off x="684360" y="691920"/>
            <a:ext cx="7704000" cy="561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women in democratisation in Anglophone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0000"/>
                </a:solidFill>
                <a:latin typeface="Tw Cen MT"/>
              </a:rPr>
              <a:t>“</a:t>
            </a:r>
            <a:r>
              <a:rPr b="1" lang="en-ZA" sz="2800" spc="-1" strike="noStrike">
                <a:solidFill>
                  <a:srgbClr val="ff0000"/>
                </a:solidFill>
                <a:latin typeface="Tw Cen MT"/>
              </a:rPr>
              <a:t>The role of urban women in democratisation in South Africa between 1999 and 2004.”</a:t>
            </a:r>
            <a:endParaRPr b="0" lang="en-US" sz="2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90" name="Down Arrow 4"/>
          <p:cNvSpPr/>
          <p:nvPr/>
        </p:nvSpPr>
        <p:spPr>
          <a:xfrm>
            <a:off x="4103640" y="2492280"/>
            <a:ext cx="936720" cy="1513080"/>
          </a:xfrm>
          <a:prstGeom prst="downArrow">
            <a:avLst>
              <a:gd name="adj1" fmla="val 50000"/>
              <a:gd name="adj2" fmla="val 49999"/>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91" name="Rectangle 5"/>
          <p:cNvSpPr/>
          <p:nvPr/>
        </p:nvSpPr>
        <p:spPr>
          <a:xfrm>
            <a:off x="468360" y="476280"/>
            <a:ext cx="8207280" cy="5977080"/>
          </a:xfrm>
          <a:prstGeom prst="rect">
            <a:avLst/>
          </a:prstGeom>
          <a:no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The Logic of Narrowing</a:t>
            </a:r>
            <a:endParaRPr b="1" lang="en-US" sz="4400" spc="-1" strike="noStrike">
              <a:solidFill>
                <a:srgbClr val="575f6d"/>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have logical reasons for narrowing the topic the way that you have.</a:t>
            </a:r>
            <a:endParaRPr b="0" lang="en-US" sz="32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reasons may vary – interest; under-researched areas; available data; word limits.</a:t>
            </a:r>
            <a:endParaRPr b="0" lang="en-US" sz="32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make your rationale clear – this usually is covered in the “significance of study” section of your paper.</a:t>
            </a:r>
            <a:endParaRPr b="0" lang="en-US" sz="32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39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ADD7-07AD-4AEB-8D89-400C47B6AFF8}"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0000"/>
                </a:solidFill>
                <a:latin typeface="Tw Cen MT"/>
              </a:rPr>
              <a:t>“</a:t>
            </a:r>
            <a:r>
              <a:rPr b="1" lang="en-ZA" sz="2800" spc="-1" strike="noStrike">
                <a:solidFill>
                  <a:srgbClr val="ff0000"/>
                </a:solidFill>
                <a:latin typeface="Tw Cen MT"/>
              </a:rPr>
              <a:t>The role of urban women in democratisation in South Africa between 1999 and 2004.”</a:t>
            </a:r>
            <a:endParaRPr b="1" lang="en-US" sz="2800" spc="-1" strike="noStrike">
              <a:solidFill>
                <a:srgbClr val="575f6d"/>
              </a:solidFill>
              <a:latin typeface="Tw Cen MT"/>
            </a:endParaRPr>
          </a:p>
        </p:txBody>
      </p:sp>
      <p:sp>
        <p:nvSpPr>
          <p:cNvPr id="396" name=""/>
          <p:cNvSpPr txBox="1"/>
          <p:nvPr/>
        </p:nvSpPr>
        <p:spPr>
          <a:xfrm>
            <a:off x="612720" y="1600200"/>
            <a:ext cx="8153280" cy="47815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ff0000"/>
                </a:solidFill>
                <a:latin typeface="Tw Cen MT"/>
                <a:ea typeface="ＭＳ Ｐゴシック"/>
              </a:rPr>
              <a:t>Why 1999 and 2009?</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President Thabo Mbeki was in power for these two electoral terms. </a:t>
            </a:r>
            <a:endParaRPr b="0" lang="en-US" sz="29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0000"/>
                </a:solidFill>
                <a:latin typeface="Tw Cen MT"/>
              </a:rPr>
              <a:t>This allows some control over some variables, such as leadership. </a:t>
            </a:r>
            <a:endParaRPr b="0" lang="en-US" sz="26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Time since 1994, possibly allowing democratic mechanisms to be more familiar to citizens.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Sufficient time between that period and the present for academic debates to have developed.</a:t>
            </a:r>
            <a:endParaRPr b="0" lang="en-US" sz="2900" spc="-1" strike="noStrike">
              <a:solidFill>
                <a:srgbClr val="000000"/>
              </a:solidFill>
              <a:latin typeface="Tw Cen MT"/>
            </a:endParaRPr>
          </a:p>
        </p:txBody>
      </p:sp>
      <p:sp>
        <p:nvSpPr>
          <p:cNvPr id="39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C0F8-AEEC-48D9-9A9A-C16A038B8946}"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Research Question</a:t>
            </a:r>
            <a:endParaRPr b="1" lang="en-US" sz="4400" spc="-1" strike="noStrike">
              <a:solidFill>
                <a:srgbClr val="575f6d"/>
              </a:solidFill>
              <a:latin typeface="Tw Cen MT"/>
            </a:endParaRPr>
          </a:p>
        </p:txBody>
      </p:sp>
      <p:sp>
        <p:nvSpPr>
          <p:cNvPr id="399" name=""/>
          <p:cNvSpPr txBox="1"/>
          <p:nvPr/>
        </p:nvSpPr>
        <p:spPr>
          <a:xfrm>
            <a:off x="539280" y="1599840"/>
            <a:ext cx="8226360" cy="4853160"/>
          </a:xfrm>
          <a:prstGeom prst="rect">
            <a:avLst/>
          </a:prstGeom>
          <a:noFill/>
          <a:ln w="0">
            <a:noFill/>
          </a:ln>
        </p:spPr>
        <p:txBody>
          <a:bodyPr anchor="t">
            <a:normAutofit fontScale="97000"/>
          </a:bodyPr>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Research should allow you to realise some of the complexity of your topic.</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May have a number of sub-components to your research question.</a:t>
            </a:r>
            <a:endParaRPr b="0" lang="en-US" sz="36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se should lead to a coherent paper – do not have a series of unrelated questions for the sake of it.</a:t>
            </a: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21D4-3733-496F-AF64-5134E4D88A4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Research Question</a:t>
            </a:r>
            <a:endParaRPr b="1" lang="en-US" sz="4400" spc="-1" strike="noStrike">
              <a:solidFill>
                <a:srgbClr val="575f6d"/>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ink carefully before settling on a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be able to explain the rationale behind the question set.</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E.g. Why did you use the methodology chosen?</a:t>
            </a:r>
            <a:endParaRPr b="0" lang="en-US" sz="28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B0D9-D8BD-4F34-A2BA-6F5FF10483CD}"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351B-70E9-49B9-80D7-71EDB7AB0F13}"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405" name=""/>
          <p:cNvSpPr txBox="1"/>
          <p:nvPr/>
        </p:nvSpPr>
        <p:spPr>
          <a:xfrm>
            <a:off x="684360" y="691920"/>
            <a:ext cx="7704000" cy="561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urban women in democratisation in South Africa between 1999 and 2004.”</a:t>
            </a: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How did urban women use protest between 1999 and 2009 as a tool for promoting democracy in South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Down Arrow 4"/>
          <p:cNvSpPr/>
          <p:nvPr/>
        </p:nvSpPr>
        <p:spPr>
          <a:xfrm>
            <a:off x="4111560" y="2492280"/>
            <a:ext cx="936720" cy="1224000"/>
          </a:xfrm>
          <a:prstGeom prst="downArrow">
            <a:avLst>
              <a:gd name="adj1" fmla="val 50000"/>
              <a:gd name="adj2" fmla="val 49999"/>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7" name="Rectangle 5"/>
          <p:cNvSpPr/>
          <p:nvPr/>
        </p:nvSpPr>
        <p:spPr>
          <a:xfrm>
            <a:off x="468360" y="476280"/>
            <a:ext cx="8207280" cy="5977080"/>
          </a:xfrm>
          <a:prstGeom prst="rect">
            <a:avLst/>
          </a:prstGeom>
          <a:no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Key Concepts</a:t>
            </a:r>
            <a:endParaRPr b="1" lang="en-US" sz="4400" spc="-1" strike="noStrike">
              <a:solidFill>
                <a:srgbClr val="575f6d"/>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You need to understand the key concepts in your question.</a:t>
            </a: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You should define these concepts in your introduction – these often are deeply contested.</a:t>
            </a: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A6AF-BF89-497C-9CF3-2796ED663693}"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0000"/>
                </a:solidFill>
                <a:latin typeface="Tw Cen MT"/>
              </a:rPr>
              <a:t>“</a:t>
            </a:r>
            <a:r>
              <a:rPr b="1" lang="en-ZA" sz="2400" spc="-1" strike="noStrike">
                <a:solidFill>
                  <a:srgbClr val="ff0000"/>
                </a:solidFill>
                <a:latin typeface="Tw Cen MT"/>
              </a:rPr>
              <a:t>How did urban women use protest between 1999 and 2009 as a tool for promoting democracy in South Africa?”</a:t>
            </a:r>
            <a:endParaRPr b="1" lang="en-US" sz="2400" spc="-1" strike="noStrike">
              <a:solidFill>
                <a:srgbClr val="575f6d"/>
              </a:solidFill>
              <a:latin typeface="Tw Cen MT"/>
            </a:endParaRPr>
          </a:p>
        </p:txBody>
      </p:sp>
      <p:sp>
        <p:nvSpPr>
          <p:cNvPr id="412" name=""/>
          <p:cNvSpPr txBox="1"/>
          <p:nvPr/>
        </p:nvSpPr>
        <p:spPr>
          <a:xfrm>
            <a:off x="612720" y="1599840"/>
            <a:ext cx="8153280" cy="4924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a:t>
            </a:r>
            <a:r>
              <a:rPr b="0" lang="en-ZA" sz="2900" spc="-1" strike="noStrike">
                <a:solidFill>
                  <a:srgbClr val="ff0000"/>
                </a:solidFill>
                <a:latin typeface="Tw Cen MT"/>
              </a:rPr>
              <a:t>Protest”; “democracy”; “promoting democracy”; “urban”; and even “tool”.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u="sng">
                <a:solidFill>
                  <a:srgbClr val="ff0000"/>
                </a:solidFill>
                <a:uFillTx/>
                <a:latin typeface="Tw Cen MT"/>
              </a:rPr>
              <a:t>Consider “urban”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Does this include peri-urban areas? Only metropolitan areas? Only Johannesburg, Cape Town, Port Elizabeth and Durban? Why? The reason may simply be because of available and reliable data.</a:t>
            </a:r>
            <a:endParaRPr b="0" lang="en-US" sz="2900" spc="-1" strike="noStrike">
              <a:solidFill>
                <a:srgbClr val="000000"/>
              </a:solidFill>
              <a:latin typeface="Tw Cen MT"/>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61DC-3F57-4A29-9730-087D4E3554F5}"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Outline</a:t>
            </a:r>
            <a:endParaRPr b="1" lang="en-US" sz="4400" spc="-1" strike="noStrike">
              <a:solidFill>
                <a:srgbClr val="575f6d"/>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ims</a:t>
            </a:r>
            <a:endParaRPr b="0" lang="en-US" sz="29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is a research question?</a:t>
            </a:r>
            <a:endParaRPr b="0" lang="en-US" sz="29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arting the process</a:t>
            </a:r>
            <a:endParaRPr b="0" lang="en-US" sz="29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Broad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Narrow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Focused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Research Question</a:t>
            </a:r>
            <a:endParaRPr b="0" lang="en-US" sz="26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to avoid</a:t>
            </a:r>
            <a:endParaRPr b="0" lang="en-US" sz="2900" spc="-1" strike="noStrike">
              <a:solidFill>
                <a:srgbClr val="000000"/>
              </a:solidFill>
              <a:latin typeface="Tw Cen MT"/>
            </a:endParaRPr>
          </a:p>
        </p:txBody>
      </p:sp>
      <p:sp>
        <p:nvSpPr>
          <p:cNvPr id="3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73FC-BB7C-4E1A-8BDD-9304B68A935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Hidden Assumptions</a:t>
            </a:r>
            <a:endParaRPr b="1" lang="en-US" sz="4400" spc="-1" strike="noStrike">
              <a:solidFill>
                <a:srgbClr val="575f6d"/>
              </a:solidFill>
              <a:latin typeface="Tw Cen MT"/>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Be careful not to make assumptions during the process of setting your question.</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0000"/>
                </a:solidFill>
                <a:latin typeface="Tw Cen MT"/>
              </a:rPr>
              <a:t>For example, do not assume that there is a positive relationship between women and democracy promotion.</a:t>
            </a:r>
            <a:endParaRPr b="0" lang="en-US" sz="2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May lead you to overlook other important results.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est your (researched) hypotheses</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Do not take for granted that they are correct.</a:t>
            </a:r>
            <a:endParaRPr b="0" lang="en-US" sz="2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1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9F07-AAD5-41C7-95E5-25AE05FBB4D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1132-5DDD-4E6F-968F-53D4755A300D}"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418" name="Rectangle 4"/>
          <p:cNvSpPr/>
          <p:nvPr/>
        </p:nvSpPr>
        <p:spPr>
          <a:xfrm>
            <a:off x="611280" y="549360"/>
            <a:ext cx="7777080" cy="5832360"/>
          </a:xfrm>
          <a:prstGeom prst="rect">
            <a:avLst/>
          </a:prstGeom>
          <a:solidFill>
            <a:srgbClr val="ffcfaf"/>
          </a:solid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grpSp>
        <p:nvGrpSpPr>
          <p:cNvPr id="419" name="Group 16"/>
          <p:cNvGrpSpPr/>
          <p:nvPr/>
        </p:nvGrpSpPr>
        <p:grpSpPr>
          <a:xfrm>
            <a:off x="1835280" y="1198080"/>
            <a:ext cx="5446440" cy="4606920"/>
            <a:chOff x="1835280" y="1198080"/>
            <a:chExt cx="5446440" cy="4606920"/>
          </a:xfrm>
        </p:grpSpPr>
        <p:sp>
          <p:nvSpPr>
            <p:cNvPr id="420" name="Text Box 2"/>
            <p:cNvSpPr/>
            <p:nvPr/>
          </p:nvSpPr>
          <p:spPr>
            <a:xfrm>
              <a:off x="4227120" y="4741200"/>
              <a:ext cx="698040" cy="60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ea typeface="Calibri"/>
                </a:rPr>
                <a:t>RQ</a:t>
              </a:r>
              <a:endParaRPr b="0" lang="en-US" sz="2800" spc="-1" strike="noStrike">
                <a:solidFill>
                  <a:srgbClr val="000000"/>
                </a:solidFill>
                <a:latin typeface="Tw Cen MT"/>
              </a:endParaRPr>
            </a:p>
          </p:txBody>
        </p:sp>
        <p:grpSp>
          <p:nvGrpSpPr>
            <p:cNvPr id="421" name="Group 18"/>
            <p:cNvGrpSpPr/>
            <p:nvPr/>
          </p:nvGrpSpPr>
          <p:grpSpPr>
            <a:xfrm>
              <a:off x="1835280" y="1198080"/>
              <a:ext cx="5446440" cy="4606920"/>
              <a:chOff x="1835280" y="1198080"/>
              <a:chExt cx="5446440" cy="4606920"/>
            </a:xfrm>
          </p:grpSpPr>
          <p:grpSp>
            <p:nvGrpSpPr>
              <p:cNvPr id="422" name="Group 19"/>
              <p:cNvGrpSpPr/>
              <p:nvPr/>
            </p:nvGrpSpPr>
            <p:grpSpPr>
              <a:xfrm>
                <a:off x="1835280" y="1198080"/>
                <a:ext cx="5446440" cy="4606920"/>
                <a:chOff x="1835280" y="1198080"/>
                <a:chExt cx="5446440" cy="4606920"/>
              </a:xfrm>
            </p:grpSpPr>
            <p:sp>
              <p:nvSpPr>
                <p:cNvPr id="423" name="Isosceles Triangle 23"/>
                <p:cNvSpPr/>
                <p:nvPr/>
              </p:nvSpPr>
              <p:spPr>
                <a:xfrm flipV="1">
                  <a:off x="1835280" y="1197360"/>
                  <a:ext cx="5446440" cy="4606920"/>
                </a:xfrm>
                <a:prstGeom prst="triangle">
                  <a:avLst>
                    <a:gd name="adj" fmla="val 50000"/>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4" name="Straight Connector 24"/>
                <p:cNvSpPr/>
                <p:nvPr/>
              </p:nvSpPr>
              <p:spPr>
                <a:xfrm>
                  <a:off x="2498760" y="2285640"/>
                  <a:ext cx="4135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sp>
              <p:nvSpPr>
                <p:cNvPr id="425" name="Straight Connector 25"/>
                <p:cNvSpPr/>
                <p:nvPr/>
              </p:nvSpPr>
              <p:spPr>
                <a:xfrm>
                  <a:off x="3801960" y="4570200"/>
                  <a:ext cx="147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sp>
              <p:nvSpPr>
                <p:cNvPr id="426" name="Straight Connector 26"/>
                <p:cNvSpPr/>
                <p:nvPr/>
              </p:nvSpPr>
              <p:spPr>
                <a:xfrm>
                  <a:off x="3138480" y="3438360"/>
                  <a:ext cx="282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grpSp>
          <p:sp>
            <p:nvSpPr>
              <p:cNvPr id="427" name="Text Box 2"/>
              <p:cNvSpPr/>
              <p:nvPr/>
            </p:nvSpPr>
            <p:spPr>
              <a:xfrm>
                <a:off x="2050920" y="1269720"/>
                <a:ext cx="4968720" cy="96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6000" spc="-1" strike="noStrike">
                    <a:solidFill>
                      <a:srgbClr val="000000"/>
                    </a:solidFill>
                    <a:latin typeface="Calibri"/>
                    <a:ea typeface="Calibri"/>
                  </a:rPr>
                  <a:t>BROAD TOPIC</a:t>
                </a:r>
                <a:endParaRPr b="0" lang="en-US" sz="6000" spc="-1" strike="noStrike">
                  <a:solidFill>
                    <a:srgbClr val="000000"/>
                  </a:solidFill>
                  <a:latin typeface="Tw Cen MT"/>
                </a:endParaRPr>
              </a:p>
            </p:txBody>
          </p:sp>
          <p:sp>
            <p:nvSpPr>
              <p:cNvPr id="428" name="Text Box 2"/>
              <p:cNvSpPr/>
              <p:nvPr/>
            </p:nvSpPr>
            <p:spPr>
              <a:xfrm>
                <a:off x="2448360" y="2483280"/>
                <a:ext cx="4243320" cy="12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Calibri"/>
                    <a:ea typeface="Calibri"/>
                  </a:rPr>
                  <a:t>NARROW TOPIC</a:t>
                </a:r>
                <a:endParaRPr b="0" lang="en-US" sz="3800" spc="-1" strike="noStrike">
                  <a:solidFill>
                    <a:srgbClr val="000000"/>
                  </a:solidFill>
                  <a:latin typeface="Tw Cen MT"/>
                </a:endParaRPr>
              </a:p>
            </p:txBody>
          </p:sp>
          <p:sp>
            <p:nvSpPr>
              <p:cNvPr id="429" name="Text Box 2"/>
              <p:cNvSpPr/>
              <p:nvPr/>
            </p:nvSpPr>
            <p:spPr>
              <a:xfrm>
                <a:off x="2905200" y="3420360"/>
                <a:ext cx="3341520" cy="118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ea typeface="Calibri"/>
                  </a:rPr>
                  <a:t>FOCUSED </a:t>
                </a:r>
                <a:endParaRPr b="0" lang="en-US" sz="32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ea typeface="Calibri"/>
                  </a:rPr>
                  <a:t>TOPIC</a:t>
                </a:r>
                <a:endParaRPr b="0" lang="en-US" sz="3200" spc="-1" strike="noStrike">
                  <a:solidFill>
                    <a:srgbClr val="000000"/>
                  </a:solidFill>
                  <a:latin typeface="Tw Cen MT"/>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How could we improve this?</a:t>
            </a:r>
            <a:endParaRPr b="1" lang="en-US" sz="4400" spc="-1" strike="noStrike">
              <a:solidFill>
                <a:srgbClr val="575f6d"/>
              </a:solidFill>
              <a:latin typeface="Tw Cen MT"/>
            </a:endParaRPr>
          </a:p>
        </p:txBody>
      </p:sp>
      <p:sp>
        <p:nvSpPr>
          <p:cNvPr id="43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0000"/>
                </a:solidFill>
                <a:latin typeface="Tw Cen MT"/>
              </a:rPr>
              <a:t>What were the causes of the 1994 Rwandan genocide?</a:t>
            </a:r>
            <a:endParaRPr b="0" lang="en-US" sz="4000" spc="-1" strike="noStrike">
              <a:solidFill>
                <a:srgbClr val="000000"/>
              </a:solidFill>
              <a:latin typeface="Tw Cen MT"/>
            </a:endParaRPr>
          </a:p>
        </p:txBody>
      </p:sp>
      <p:sp>
        <p:nvSpPr>
          <p:cNvPr id="43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D056-B46F-405A-BBB1-98FA4505CAB1}"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Possibly…</a:t>
            </a:r>
            <a:endParaRPr b="1" lang="en-US" sz="4400" spc="-1" strike="noStrike">
              <a:solidFill>
                <a:srgbClr val="575f6d"/>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fontScale="96000"/>
          </a:bodyPr>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ea typeface="ＭＳ Ｐゴシック"/>
              </a:rPr>
              <a:t>Fear, rather than resource limitations, was the main cause of the 1994 Rwandan genocide. Critically discuss.</a:t>
            </a:r>
            <a:endParaRPr b="0" lang="en-US" sz="3200" spc="-1" strike="noStrike">
              <a:solidFill>
                <a:srgbClr val="000000"/>
              </a:solidFill>
              <a:latin typeface="Tw Cen MT"/>
            </a:endParaRPr>
          </a:p>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ea typeface="ＭＳ Ｐゴシック"/>
              </a:rPr>
              <a:t>Does the Ethnic Security Dilemma effectively explain the main cause(s) of the Rwandan genocide? Why or why not?</a:t>
            </a:r>
            <a:endParaRPr b="0" lang="en-US" sz="3200" spc="-1" strike="noStrike">
              <a:solidFill>
                <a:srgbClr val="000000"/>
              </a:solidFill>
              <a:latin typeface="Tw Cen MT"/>
            </a:endParaRPr>
          </a:p>
        </p:txBody>
      </p:sp>
      <p:sp>
        <p:nvSpPr>
          <p:cNvPr id="43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233F-B8C5-40E8-8C67-E71482FB8781}"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240" y="1600200"/>
            <a:ext cx="7620120" cy="990720"/>
          </a:xfrm>
          <a:prstGeom prst="rect">
            <a:avLst/>
          </a:prstGeom>
          <a:noFill/>
          <a:ln w="0">
            <a:noFill/>
          </a:ln>
        </p:spPr>
        <p:txBody>
          <a:bodyPr anchor="ctr">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w Cen MT"/>
              </a:rPr>
              <a:t>What to avoid</a:t>
            </a:r>
            <a:endParaRPr b="1" lang="en-US" sz="4400" spc="-1" strike="noStrike">
              <a:solidFill>
                <a:srgbClr val="575f6d"/>
              </a:solidFill>
              <a:latin typeface="Tw Cen MT"/>
            </a:endParaRPr>
          </a:p>
        </p:txBody>
      </p:sp>
      <p:sp>
        <p:nvSpPr>
          <p:cNvPr id="43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ECB8-05A5-4302-A20E-8AFFD6FC2BA1}"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Do not…</a:t>
            </a:r>
            <a:endParaRPr b="1" lang="en-US" sz="4400" spc="-1" strike="noStrike">
              <a:solidFill>
                <a:srgbClr val="575f6d"/>
              </a:solidFill>
              <a:latin typeface="Tw Cen MT"/>
            </a:endParaRPr>
          </a:p>
        </p:txBody>
      </p:sp>
      <p:sp>
        <p:nvSpPr>
          <p:cNvPr id="439" name=""/>
          <p:cNvSpPr txBox="1"/>
          <p:nvPr/>
        </p:nvSpPr>
        <p:spPr>
          <a:xfrm>
            <a:off x="612720" y="1599840"/>
            <a:ext cx="8153280" cy="49244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Underestimate time</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Setting a question requires a lot of research, editing and reflection.</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Set a question beyond the assignment’s scope</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Usually cannot be narrow enough!</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Use unclear wording</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Alternative phrasing?</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Feel ‘stuck’ with a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4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30A6-3D6A-4841-9130-224A00998FBF}"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AB3E-B882-40E7-8FB1-6A5EFB8FAE55}" type="slidenum">
              <a:rPr b="1" lang="en-US" sz="1400" spc="-1" strike="noStrike">
                <a:solidFill>
                  <a:srgbClr val="575f6d"/>
                </a:solidFill>
                <a:latin typeface="Tw Cen MT"/>
              </a:rPr>
              <a:t>&lt;number&gt;</a:t>
            </a:fld>
            <a:endParaRPr b="0" lang="en-US" sz="1400" spc="-1" strike="noStrike">
              <a:solidFill>
                <a:srgbClr val="000000"/>
              </a:solidFill>
              <a:latin typeface="Tw Cen MT"/>
            </a:endParaRPr>
          </a:p>
        </p:txBody>
      </p:sp>
      <p:pic>
        <p:nvPicPr>
          <p:cNvPr id="442" name="Content Placeholder 3" descr="http://i.creativecommons.org/l/by/3.0/88x31.png"/>
          <p:cNvPicPr/>
          <p:nvPr/>
        </p:nvPicPr>
        <p:blipFill>
          <a:blip r:embed="rId1"/>
          <a:srcRect l="0" t="-25343" r="0" b="-25343"/>
          <a:stretch/>
        </p:blipFill>
        <p:spPr>
          <a:xfrm>
            <a:off x="3276720" y="1197000"/>
            <a:ext cx="2603520" cy="1316160"/>
          </a:xfrm>
          <a:prstGeom prst="rect">
            <a:avLst/>
          </a:prstGeom>
          <a:ln w="0">
            <a:noFill/>
          </a:ln>
        </p:spPr>
      </p:pic>
      <p:sp>
        <p:nvSpPr>
          <p:cNvPr id="443" name="TextBox 7"/>
          <p:cNvSpPr/>
          <p:nvPr/>
        </p:nvSpPr>
        <p:spPr>
          <a:xfrm>
            <a:off x="755640" y="3068640"/>
            <a:ext cx="7777080" cy="259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This presentation is licenced under the Creative Commons Attribution 2.5 South Africa License. To view a copy of this licence, visit </a:t>
            </a:r>
            <a:r>
              <a:rPr b="0" lang="en-ZA" sz="1800" spc="-1" strike="noStrike" u="sng">
                <a:solidFill>
                  <a:srgbClr val="d2611c"/>
                </a:solidFill>
                <a:uFillTx/>
                <a:latin typeface="Tw Cen MT"/>
                <a:hlinkClick r:id="rId2"/>
              </a:rPr>
              <a:t>http://creativecommons.org/licenses/by/2.5/za/</a:t>
            </a:r>
            <a:r>
              <a:rPr b="1" lang="en-ZA" sz="1800" spc="-1" strike="noStrike">
                <a:solidFill>
                  <a:srgbClr val="ff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Or</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send a letter to Creative Commons, 171 Second Street, Suite 300, San Francisco, California 94105, USA.</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Aims</a:t>
            </a:r>
            <a:endParaRPr b="1" lang="en-US" sz="4400" spc="-1" strike="noStrike">
              <a:solidFill>
                <a:srgbClr val="575f6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importance of a good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components of a good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Begin the process of formulating a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What to avoid when formulating a question</a:t>
            </a:r>
            <a:endParaRPr b="0" lang="en-US" sz="32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AE31-91DC-475A-A65E-7AC57ED7664D}"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Tw Cen MT"/>
              </a:rPr>
              <a:t>What is a research question?</a:t>
            </a:r>
            <a:endParaRPr b="1" lang="en-US" sz="4000" spc="-1" strike="noStrike">
              <a:solidFill>
                <a:srgbClr val="575f6d"/>
              </a:solidFill>
              <a:latin typeface="Tw Cen MT"/>
            </a:endParaRPr>
          </a:p>
        </p:txBody>
      </p:sp>
      <p:sp>
        <p:nvSpPr>
          <p:cNvPr id="365"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8276-671F-4FF7-ADF8-711BA6F963CB}"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A research question</a:t>
            </a:r>
            <a:endParaRPr b="1" lang="en-US" sz="4400" spc="-1" strike="noStrike">
              <a:solidFill>
                <a:srgbClr val="575f6d"/>
              </a:solidFill>
              <a:latin typeface="Tw Cen MT"/>
            </a:endParaRPr>
          </a:p>
        </p:txBody>
      </p:sp>
      <p:sp>
        <p:nvSpPr>
          <p:cNvPr id="367" name=""/>
          <p:cNvSpPr txBox="1"/>
          <p:nvPr/>
        </p:nvSpPr>
        <p:spPr>
          <a:xfrm>
            <a:off x="468000" y="1600200"/>
            <a:ext cx="8297640" cy="4781520"/>
          </a:xfrm>
          <a:prstGeom prst="rect">
            <a:avLst/>
          </a:prstGeom>
          <a:noFill/>
          <a:ln w="0">
            <a:noFill/>
          </a:ln>
        </p:spPr>
        <p:txBody>
          <a:bodyPr anchor="t">
            <a:normAutofit fontScale="97000"/>
          </a:bodyPr>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Starting point for investigations in the natural and social sciences.</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Directs and focuses research.</a:t>
            </a:r>
            <a:endParaRPr b="0" lang="en-US" sz="36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Dependent upon quality of question set.</a:t>
            </a:r>
            <a:endParaRPr b="0" lang="en-US" sz="32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Must be focused, narrow, clear and concise.</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Set a question of genuine interest.</a:t>
            </a:r>
            <a:endParaRPr b="0" lang="en-US" sz="3600" spc="-1" strike="noStrike">
              <a:solidFill>
                <a:srgbClr val="000000"/>
              </a:solidFill>
              <a:latin typeface="Tw Cen MT"/>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A0E9-AD9C-4DD6-8469-E41931CCAB64}"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539280" y="3068640"/>
            <a:ext cx="6696360" cy="3062160"/>
          </a:xfrm>
          <a:prstGeom prst="rect">
            <a:avLst/>
          </a:prstGeom>
          <a:noFill/>
          <a:ln w="0">
            <a:noFill/>
          </a:ln>
        </p:spPr>
        <p:txBody>
          <a:bodyPr anchor="t">
            <a:normAutofit/>
          </a:bodyPr>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Broad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Narrow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Focused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Research Question</a:t>
            </a:r>
            <a:endParaRPr b="0" lang="en-US" sz="44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7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w Cen MT"/>
              </a:rPr>
              <a:t>Starting the Process</a:t>
            </a:r>
            <a:endParaRPr b="1" lang="en-US" sz="4400" spc="-1" strike="noStrike">
              <a:solidFill>
                <a:srgbClr val="575f6d"/>
              </a:solidFill>
              <a:latin typeface="Tw Cen MT"/>
            </a:endParaRPr>
          </a:p>
        </p:txBody>
      </p:sp>
      <p:sp>
        <p:nvSpPr>
          <p:cNvPr id="37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D35C-75B6-4895-8477-D5924914C310}"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Broad Topic</a:t>
            </a:r>
            <a:endParaRPr b="1" lang="en-US" sz="4400" spc="-1" strike="noStrike">
              <a:solidFill>
                <a:srgbClr val="575f6d"/>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broadest area of your research interest.</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r broad topic will help to guide your literature review.</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Make note of the dominant questions within the topic you are researching.</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E.g. </a:t>
            </a:r>
            <a:r>
              <a:rPr b="0" lang="en-ZA" sz="3200" spc="-1" strike="noStrike">
                <a:solidFill>
                  <a:srgbClr val="ff0000"/>
                </a:solidFill>
                <a:latin typeface="Tw Cen MT"/>
              </a:rPr>
              <a:t>Democratisation in Africa.</a:t>
            </a:r>
            <a:endParaRPr b="0" lang="en-US" sz="3200" spc="-1" strike="noStrike">
              <a:solidFill>
                <a:srgbClr val="000000"/>
              </a:solidFill>
              <a:latin typeface="Tw Cen MT"/>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3D72-7C6C-40EB-AFA5-5A605FE5788E}"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Narrow Topic</a:t>
            </a:r>
            <a:endParaRPr b="1" lang="en-US" sz="4400" spc="-1" strike="noStrike">
              <a:solidFill>
                <a:srgbClr val="575f6d"/>
              </a:solidFill>
              <a:latin typeface="Tw Cen MT"/>
            </a:endParaRPr>
          </a:p>
        </p:txBody>
      </p:sp>
      <p:sp>
        <p:nvSpPr>
          <p:cNvPr id="376" name=""/>
          <p:cNvSpPr txBox="1"/>
          <p:nvPr/>
        </p:nvSpPr>
        <p:spPr>
          <a:xfrm>
            <a:off x="468000" y="1600200"/>
            <a:ext cx="8297640" cy="499752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fter some research, you can begin to narrow the topic.</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Consider:</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Relevant theories/models.</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Time period.</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Particular events.</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Geographical area.</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Biographical information – gender; age; ethnicity.</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Other aspects or fields – economic; psychological; historical.</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vailable data.</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F763-EEA7-4006-A46F-A7519402706C}"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Consider…</a:t>
            </a:r>
            <a:endParaRPr b="1" lang="en-US" sz="4400" spc="-1" strike="noStrike">
              <a:solidFill>
                <a:srgbClr val="575f6d"/>
              </a:solidFill>
              <a:latin typeface="Tw Cen MT"/>
            </a:endParaRPr>
          </a:p>
        </p:txBody>
      </p:sp>
      <p:sp>
        <p:nvSpPr>
          <p:cNvPr id="379" name=""/>
          <p:cNvSpPr txBox="1"/>
          <p:nvPr/>
        </p:nvSpPr>
        <p:spPr>
          <a:xfrm>
            <a:off x="612720" y="1599840"/>
            <a:ext cx="8153280" cy="49244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0000"/>
                </a:solidFill>
                <a:latin typeface="Tw Cen MT"/>
              </a:rPr>
              <a:t>“</a:t>
            </a:r>
            <a:r>
              <a:rPr b="1" lang="en-ZA" sz="4000" spc="-1" strike="noStrike">
                <a:solidFill>
                  <a:srgbClr val="ff0000"/>
                </a:solidFill>
                <a:latin typeface="Tw Cen MT"/>
              </a:rPr>
              <a:t>Democratisation in Africa.”</a:t>
            </a: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ow could you narrow this down?</a:t>
            </a:r>
            <a:endParaRPr b="0" lang="en-US" sz="2900" spc="-1" strike="noStrike">
              <a:solidFill>
                <a:srgbClr val="000000"/>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5F01-2FF9-444A-99C3-4DCDA0FAAABD}"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6T13:31:30Z</dcterms:created>
  <dc:creator>Laura</dc:creator>
  <dc:description/>
  <dc:language>en-US</dc:language>
  <cp:lastModifiedBy>Neil Berry</cp:lastModifiedBy>
  <dcterms:modified xsi:type="dcterms:W3CDTF">2014-04-22T13:08:23Z</dcterms:modified>
  <cp:revision>68</cp:revision>
  <dc:subject/>
  <dc:title>Skills development lectures</dc:title>
</cp:coreProperties>
</file>