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7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xine Rubin" initials="MR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8-13T16:57:12.632000000" idx="2">
    <p:pos x="5448" y="99"/>
    <p:text>Use an example relevant to your course.</p:text>
  </p:cm>
</p:cmLst>
</file>

<file path=ppt/comments/comment12.xml><?xml version="1.0" encoding="utf-8"?>
<p:cmLst xmlns:p="http://schemas.openxmlformats.org/presentationml/2006/main">
  <p:cm authorId="0" dt="2013-08-13T16:49:34.983000000" idx="3">
    <p:pos x="5547" y="39"/>
    <p:text>Use a concept that is important for your course e.g. "Third World"; "justice" etc.</p:text>
  </p:cm>
</p:cmLst>
</file>

<file path=ppt/comments/comment14.xml><?xml version="1.0" encoding="utf-8"?>
<p:cmLst xmlns:p="http://schemas.openxmlformats.org/presentationml/2006/main">
  <p:cm authorId="0" dt="2013-08-13T16:53:40.290000000" idx="4">
    <p:pos x="5435" y="363"/>
    <p:text>As noted in the lecture plan - this should be an exmaple specifically tailored to your course</p:text>
  </p:cm>
</p:cmLst>
</file>

<file path=ppt/comments/comment7.xml><?xml version="1.0" encoding="utf-8"?>
<p:cmLst xmlns:p="http://schemas.openxmlformats.org/presentationml/2006/main">
  <p:cm authorId="0" dt="2013-08-13T16:45:19.590000000" idx="1">
    <p:pos x="5523" y="69"/>
    <p:text>A specific example should be inserted to illustrate the difference between a model and a theory (see the lecture plan's example about the Security Dilemma model and Realism theory)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BC6-0725-49E7-9E6C-D0342C9C28CC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C66-3D1B-4EA7-8C4A-B13CC83B7BC7}" type="slidenum">
              <a:rPr b="0" lang="en-ZA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CAD-4E19-46EC-883B-9689A904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E12-5897-4AD4-BF8A-782B84A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E46-5663-4EE8-B217-824F7AFC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224-21FB-409F-A651-D63A5A43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5E3-E03F-4AE9-865B-9937A755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2903-0E13-4959-8088-2E05D922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5256-5F13-4088-96B5-EBFABE9B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411-FA32-411F-84C0-0E57DF4C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5F7-D1BF-420E-8570-A8B495B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90E2-47EC-4F87-921E-461B225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C60-7D2B-405E-A097-9785A06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B96-2D33-4444-A710-016E309F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C99F-747F-40B0-A13D-C741963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3AA-B2E5-4175-B5EB-50F9100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63C3-1F68-4D69-BAF2-D208921D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A725-CA8F-43D3-8491-4D347C68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8808-B6FD-43C2-B143-2B770EE3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1B96F-34FE-4173-98C9-EB9D946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BF486-FE46-449F-BFBC-E581C69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E9B69-0D8C-4BD1-AC1B-2874A5C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3325A-EF1C-463C-B1E6-310F2096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C9DA5-10FA-41F4-B4D0-C7166AD2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C8F-E814-4C97-9BCE-F7C62DD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9434C-8815-4C8D-80FD-0D75A044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60D6A-339C-49EF-9F22-EC53778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13392-10B1-4DA2-A0AB-71BAE83A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27A08-178B-42F3-9694-8F34D6B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C66FF-66CD-476C-B42A-6137F44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822C2-E17C-4E61-96B9-FE9A2715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5C25B-40CB-4199-89A1-6ED6BDBA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8A337-D563-430B-BFC5-3986C69A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11138-5495-4ADE-8DBF-0A1D0FBD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00D02-7815-4D8A-81AA-84817CEE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EE1-013E-49CC-B6F0-0DD789E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560F6-FC12-4556-AA26-97A61CC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04B19-4E75-481F-B605-EFA74234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47E3B-3A36-44D4-8630-97DD9DA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582AC-0AD1-4412-9AA5-51B71B68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A268E-A4BD-4342-896B-91D8578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5106D-D6E1-44F4-9613-C02FA3D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71A55-9175-431D-8B3A-7126AF2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6DC1F-624A-48A6-8247-C3741E60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7F601-734E-434D-910F-668FED8C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AFBBC-0205-4E78-8C48-4560A84E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C3D-5053-4536-A14F-13D49FA7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76877-39AD-4631-9809-A3986EE8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88E0B-64CA-4FCF-A6B5-2FF8672E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00D67-AF38-4DEF-9EB4-04BE05F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52C4E-0F52-491D-B6F4-4CFDFB1C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629E2-50A8-4270-A6AF-7E47EA5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7ECE1-2B30-4052-9297-069001B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6097B-F3A6-4536-9B14-57639A3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556AF-3EB2-4EB4-B402-F6EF3F2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6850C-80F0-47CB-8490-15C5DF06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76F02-730F-4156-ACC3-E7CA6DC7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DBC-0D88-429E-973E-DC9A2DD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12F15-1082-4AB0-AC82-1515D4AA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05B06-19B5-44A9-B5FD-9BACAA6E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6A4D0-533E-4CCD-803D-41CD36D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563B-617E-4092-BD68-D5BB22D9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BF16-9825-4182-A152-18C019E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852A-BBF3-4D8A-A8E7-0F6BE6BF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6452-AA72-4575-AAEB-6C14CF70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4839-91C7-47A9-B18A-E2205D9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7BD5-477F-4BF4-ADC1-4DB83EF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B373-80DC-4246-9964-23C13AE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E50-E191-4957-9D4E-DE2A8DB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EF3E-0B3F-488D-A528-5BC03199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BB97B-5F98-4FD5-8C1D-75786FA3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F5ED6-4C84-4BB6-A3DF-B485D01C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EB307-8715-40F4-B751-CC7213EE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552B2-35D2-4778-B1D1-991BA60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13350-6087-4BDE-AED7-C3942D9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3A362-0D8C-4B4E-B9BA-81FCC23D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21016-8171-45F5-98DE-55FA7BAB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27720-DDE1-4944-AA3E-03B0B12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BDDF0-0AF4-40C7-9796-03A0E7B6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DF3-DB52-405F-9F11-A4081C0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C78ED-0E01-4263-812B-E3B24AF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D44FD-3ADB-4E6B-84CD-C8647C4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56493-9F5E-44DE-AB4B-D4992338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9AA17-3E37-40E8-952F-7FEF332F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F171D-A67B-4E18-AE0E-57268B25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3C42-BFB2-40EB-A9FB-4FCA5E8E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E2F1-8683-4C86-8106-0D5256C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A77E-8690-4A51-B66E-1B18BA2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C5D8-3707-40FD-82EC-CBBA385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5139-092F-45BD-8452-16D722F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F89-5C74-42AA-9EC3-7299417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2834-414C-423D-B30E-E3D7FD32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AA863-886E-4231-96F1-5ABBF94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BAAE2-CE2A-48BC-B33E-C27ADF1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5D83-BAFA-488E-A02F-F8D01F18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64ED-4A2C-4F95-B6D1-CB249B48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BBE92-1DC3-4056-9D93-A99D6D65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8B2A7-89A8-4C85-A320-03563FA8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DE6-BBC5-4F64-B86B-BE4AAA564B12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1EC-B147-4F0D-98F4-37F4C5FDD74B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5ADA-95E3-465F-9A2D-B043791BE62C}" type="datetime">
              <a:rPr b="0" lang="en-ZA" sz="2000" spc="-1" strike="noStrike">
                <a:solidFill>
                  <a:srgbClr val="ffffff"/>
                </a:solidFill>
                <a:latin typeface="Times New Roman"/>
              </a:rPr>
              <a:t>26-07-2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986-5C0D-4F7F-9F63-E2FAF7C04841}" type="slidenum">
              <a:rPr b="1" lang="en-Z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58F9-8CDB-4516-8416-AD0E156D3024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E47F-50E3-40F7-BD67-A711E3249928}" type="slidenum">
              <a:rPr b="1" lang="en-Z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159-13C8-4269-B390-38B2189C9FDC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A751-2D4E-49A0-BABC-6AF646BD3E05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EB6C-97A2-43A8-9AB4-16260E5B48BF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DCBA-75ED-455E-BFD3-D05F1FB558DE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2826-3BDA-4650-9128-72CF41388B8E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F10E-F69F-46C2-905D-46C0986F0BA9}" type="slidenum">
              <a:rPr b="1" lang="en-Z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635C-8416-445E-933C-FC73A03A1D81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779-7402-46EE-B7DE-524CB553D1C9}" type="slidenum">
              <a:rPr b="1" lang="en-Z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160D-83C9-4153-8E7E-442EA24EAD4A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58AF-DCC0-4101-B737-A58D8AED5A71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reativecommons.org/licenses/by-sa/2.5/za/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f39d"/>
                </a:solidFill>
                <a:latin typeface="Tw Cen MT"/>
              </a:rPr>
              <a:t>Concept, Theory, case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w Cen MT"/>
              </a:rPr>
              <a:t>Deciphering the Differen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14B7-5E77-4CB4-9C78-0C8FB718EE09}" type="slidenum">
              <a:rPr b="1" lang="en-ZA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Realism vs. Neorealism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fore World War II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lism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meant something different to what it meant in the post-WWII cold war environ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ical realism puts an emphasis on the self-interested and unchanging human nature, which makes states self-interested and power-seeking uni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-realism explains conflict by the state of anarchy in the international sphere. It is less power-seeking, but survival-seeking behaviour that leads to conflic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65A5-6493-463F-9E2C-0A6CE176A8E5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575f6d"/>
                </a:solidFill>
                <a:latin typeface="Tw Cen MT"/>
              </a:rPr>
              <a:t>3. Quantitative vs. Qualitative Approaches</a:t>
            </a:r>
            <a:endParaRPr b="0" lang="en-US" sz="40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ntitative and qualitative approaches often ask and answer different questions, so that they may conceptualise ideas/phenomena differently despite often using the same wor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 quantitative approach, scholars must use concepts in a way in which they are quantifi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litative approaches can allow for much broader conceptualisa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1BF5-F373-41AC-A283-81761399016B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0" y="0"/>
          <a:ext cx="9144000" cy="1736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Conceptualising “Democracy” for a Qualitative and a Quantitative Stud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908000" y="1773360"/>
          <a:ext cx="4896000" cy="50054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ali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anti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548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9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A41-A0F2-4759-8015-809365C09FC9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4. Applying theory to case.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In this course, we apply different theories and models, employing different concepts, to analyse specific events in history, i.e. c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ories and models by definition are analytical tools that simplify the “reality” of a case in order to make it analys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us, different theoretical lenses simplify cases in different ways, and thus can shed light on different aspects of a conflict, as they ask questions differentl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B6C0-EEA0-428D-BA08-44A02ED19128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1197000"/>
          <a:ext cx="9180360" cy="5661000"/>
        </p:xfrm>
        <a:graphic>
          <a:graphicData uri="http://schemas.openxmlformats.org/drawingml/2006/table">
            <a:tbl>
              <a:tblPr/>
              <a:tblGrid>
                <a:gridCol w="918036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estion: What caused the Great Lakes Conflict of 1996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kinds of sub-questions would we ask to answer this, looking at the conflict from 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 </a:t>
                      </a:r>
                      <a:r>
                        <a:rPr b="1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alist</a:t>
                      </a: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perspecti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cial constructivist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specti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0" y="0"/>
          <a:ext cx="9144000" cy="118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Looking at the 1996 Great Lakes Conflic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sp>
        <p:nvSpPr>
          <p:cNvPr id="40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A6A1-7651-415F-9FC5-45B622DF8577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What is a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concept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theory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model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variable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at makes good research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s quantitative always better than qualitati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at is the use of applying theories to a cas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42E-4537-4FE9-BDD8-6F5B12C60B4C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2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B4F-D90D-4ED0-A413-88D1DCF44DBA}" type="slidenum">
              <a:rPr b="1" lang="en-US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Content Placeholder 3" descr="http://i.creativecommons.org/l/by/3.0/88x31.png"/>
          <p:cNvPicPr/>
          <p:nvPr/>
        </p:nvPicPr>
        <p:blipFill>
          <a:blip r:embed="rId1"/>
          <a:srcRect l="0" t="-25343" r="0" b="-25343"/>
          <a:stretch/>
        </p:blipFill>
        <p:spPr>
          <a:xfrm>
            <a:off x="3276720" y="1197000"/>
            <a:ext cx="2603520" cy="13161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7"/>
          <p:cNvSpPr/>
          <p:nvPr/>
        </p:nvSpPr>
        <p:spPr>
          <a:xfrm>
            <a:off x="755640" y="3068640"/>
            <a:ext cx="77770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This presentation is licenced under the Creative Commons Attribution 2.5 South Africa License. To view a copy of this licence, visit </a:t>
            </a:r>
            <a:r>
              <a:rPr b="0" lang="en-ZA" sz="1800" spc="-1" strike="noStrike" u="sng">
                <a:solidFill>
                  <a:srgbClr val="d2611c"/>
                </a:solidFill>
                <a:uFillTx/>
                <a:latin typeface="Tw Cen MT"/>
                <a:hlinkClick r:id="rId2"/>
              </a:rPr>
              <a:t>http://creativecommons.org/licenses/by/2.5/za/</a:t>
            </a:r>
            <a:r>
              <a:rPr b="1" lang="en-ZA" sz="1800" spc="-1" strike="noStrike">
                <a:solidFill>
                  <a:srgbClr val="ff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send a letter to Creative Commons, 171 Second Street, Suite 300, San Francisco, California 94105, US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Defini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Debates in Academi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Quantitative vs. Qualitative Approach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Applying Theory to C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0DB-30CE-42FD-954A-56A9C28CDAA4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Concep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ncept is one word, or phrase, that suggests an abstract idea or phenomenon in the social scienc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are highly contest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can be ambiguous – a major task in philosophical and theoretical writing is to clarify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are building blocks for theory – it is important to be clear what you mean when you use them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345-DF6F-40C2-8130-7C5E625B3664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ake a piece of paper and write down your definition of what freedom 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are its component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are the similarities/differences of your definition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0"/>
          <a:ext cx="9144000" cy="1125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What is freedom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sp>
        <p:nvSpPr>
          <p:cNvPr id="36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1B6-85EC-4AF6-9546-FCA6625F8D87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Theory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Theories are an attempt to logically and systematically explain real-life phenomena in an accessible and clear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43A-D39F-407C-98FE-0E1120C9F4E4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49723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Theory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599840"/>
            <a:ext cx="8370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51"/>
              </a:spcAft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ories have different func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generalisation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nd classifications – grand theories try to explain how the world works e.g. Marxis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il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ypothes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o be tested through empirical re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connection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t an abstract level, which might not be immediately observable, to guide research in new dire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nd identify potential causal mechanisms and other relationships between different phenome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AFE6-EBA4-41A8-8745-616E1D0B9C65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1. Definitions – Model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dels are mid-level theories that are restricted to 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specific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henomen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work as analytical tools, simplifying specific phenomena, and use a set of specific concepts to look at a phenomen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are often based on greater theories, however, scholars with different theoretical standpoints can use the same models as tools of analysi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55CD-AF0D-4E99-AB94-DA86306B2911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Variab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ables are concepts that are defined in such a way that they can be observed and/or measured in some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ables can be evaluated in terms of to their validity and reliabi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distinguish between dependent and independent varia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58E-C5E8-4C2D-B8E2-B922582519E5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2. Debates in Academia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Academia is all about debate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 can you think of som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Theories evolve over time and with deb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DA6-66D7-49B3-86B4-5B719574504A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3:31:30Z</dcterms:created>
  <dc:creator>Laura</dc:creator>
  <dc:description/>
  <dc:language>en-US</dc:language>
  <cp:lastModifiedBy>Neil Berry</cp:lastModifiedBy>
  <dcterms:modified xsi:type="dcterms:W3CDTF">2014-04-22T13:07:12Z</dcterms:modified>
  <cp:revision>47</cp:revision>
  <dc:subject/>
  <dc:title>Skills development lectures</dc:title>
</cp:coreProperties>
</file>